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C5C5-2816-4E5F-96CF-99C3D858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A618-A993-4D1D-AE6A-508FEC28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FFCE-18E5-4824-B9A1-5B15D047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08DE-2023-4651-9249-7B05DB6F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F6BB-709D-4413-AFAB-3FBA9246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82F0-CCF4-4BFF-A427-CB4F522D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75B9-144B-4E11-B61A-F8AD5509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3F56-D0E0-4277-846C-5A4F0119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6B48-C503-4222-9061-5B43316D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BEA8-7FC0-4D50-96C0-C78FCE40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7623-9C50-4F5C-B5CD-8D6973AC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2484-EB70-4F28-BCAB-0FEC3DF8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4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BBD0-B171-4EB1-A40B-CB3458FA3DCF}" type="slidenum">
              <a:rPr b="0" lang="es-E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E952-8802-442D-ADA6-1A00D16B8FC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Resize%20of%20Logo_OEG" descr=""/>
          <p:cNvPicPr/>
          <p:nvPr/>
        </p:nvPicPr>
        <p:blipFill>
          <a:blip r:embed="rId2"/>
          <a:stretch/>
        </p:blipFill>
        <p:spPr>
          <a:xfrm>
            <a:off x="7848720" y="624852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82560" y="6273720"/>
            <a:ext cx="702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Times New Roman"/>
              </a:rPr>
              <a:t>WP1.6. Semantic Portal Infrastructure. Crete Meeting. May, 2004  </a:t>
            </a:r>
            <a:r>
              <a:rPr b="0" lang="es-ES_tradnl" sz="9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99"/>
                </a:solidFill>
                <a:latin typeface="Times New Roman"/>
              </a:rPr>
              <a:t>                </a:t>
            </a:r>
            <a:r>
              <a:rPr b="0" lang="es-ES_tradnl" sz="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© </a:t>
            </a:r>
            <a:r>
              <a:rPr b="0" lang="es-ES_tradnl" sz="900" spc="-1" strike="noStrike">
                <a:solidFill>
                  <a:srgbClr val="000099"/>
                </a:solidFill>
                <a:latin typeface="Times New Roman"/>
              </a:rPr>
              <a:t>A. Gómez-Pérez, A. López-Cima, M.C. Suárez-Figuero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216480"/>
            <a:ext cx="7772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047080" y="228600"/>
            <a:ext cx="792000" cy="52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0570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99"/>
                </a:solidFill>
                <a:latin typeface="Times New Roman"/>
              </a:rPr>
              <a:t>WP1.6. Semantic Portal Infrastructur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27560" y="609480"/>
            <a:ext cx="2287440" cy="152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Asunción Gómez-Pérez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Angel López-Cima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M. Carmen Suárez-Figuer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Times New Roman"/>
              </a:rPr>
              <a:t>asun@fi.upm.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Times New Roman"/>
              </a:rPr>
              <a:t>&lt;alopez, mcsuarez&gt;@delicias.dia.fi.upm.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06040" y="548640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May 14th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upm" descr=""/>
          <p:cNvPicPr/>
          <p:nvPr/>
        </p:nvPicPr>
        <p:blipFill>
          <a:blip r:embed="rId2"/>
          <a:stretch/>
        </p:blipFill>
        <p:spPr>
          <a:xfrm>
            <a:off x="1447920" y="3505320"/>
            <a:ext cx="974520" cy="1295280"/>
          </a:xfrm>
          <a:prstGeom prst="rect">
            <a:avLst/>
          </a:prstGeom>
          <a:ln w="0">
            <a:noFill/>
          </a:ln>
        </p:spPr>
      </p:pic>
      <p:pic>
        <p:nvPicPr>
          <p:cNvPr id="50" name="Resize%20of%20Logo_OEG" descr=""/>
          <p:cNvPicPr/>
          <p:nvPr/>
        </p:nvPicPr>
        <p:blipFill>
          <a:blip r:embed="rId3"/>
          <a:stretch/>
        </p:blipFill>
        <p:spPr>
          <a:xfrm>
            <a:off x="6934320" y="3733920"/>
            <a:ext cx="106668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3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Knowledge Web Ontologi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6560" y="3357720"/>
            <a:ext cx="1620720" cy="1334880"/>
          </a:xfrm>
          <a:prstGeom prst="triangle">
            <a:avLst>
              <a:gd name="adj" fmla="val 50000"/>
            </a:avLst>
          </a:prstGeom>
          <a:solidFill>
            <a:srgbClr val="ccffff">
              <a:alpha val="50000"/>
            </a:srgbClr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Ont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8360" y="1003320"/>
            <a:ext cx="1463400" cy="1335240"/>
          </a:xfrm>
          <a:prstGeom prst="triangle">
            <a:avLst>
              <a:gd name="adj" fmla="val 50000"/>
            </a:avLst>
          </a:prstGeom>
          <a:solidFill>
            <a:srgbClr val="ccffff">
              <a:alpha val="50000"/>
            </a:srgbClr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Projec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Ont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8160" y="4749840"/>
            <a:ext cx="2254320" cy="1334880"/>
          </a:xfrm>
          <a:prstGeom prst="triangle">
            <a:avLst>
              <a:gd name="adj" fmla="val 50000"/>
            </a:avLst>
          </a:prstGeom>
          <a:solidFill>
            <a:srgbClr val="ccffff">
              <a:alpha val="50000"/>
            </a:srgbClr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Ont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18320" y="1003320"/>
            <a:ext cx="1620720" cy="1335240"/>
          </a:xfrm>
          <a:prstGeom prst="triangle">
            <a:avLst>
              <a:gd name="adj" fmla="val 50000"/>
            </a:avLst>
          </a:prstGeom>
          <a:solidFill>
            <a:srgbClr val="ccffff">
              <a:alpha val="50000"/>
            </a:srgbClr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Ont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43680" y="3359160"/>
            <a:ext cx="2411280" cy="1398600"/>
          </a:xfrm>
          <a:prstGeom prst="triangle">
            <a:avLst>
              <a:gd name="adj" fmla="val 50000"/>
            </a:avLst>
          </a:prstGeom>
          <a:solidFill>
            <a:srgbClr val="ccffff">
              <a:alpha val="50000"/>
            </a:srgbClr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Docu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Ont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86080" y="4764240"/>
            <a:ext cx="1942920" cy="109188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708800">
            <a:off x="1355040" y="5297040"/>
            <a:ext cx="21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Times New Roman"/>
              </a:rPr>
              <a:t>belongs to / is form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17720" y="3849840"/>
            <a:ext cx="480384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24360" y="357012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Times New Roman"/>
              </a:rPr>
              <a:t>is author of / has auth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168560" y="2374560"/>
            <a:ext cx="0" cy="148572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468720" y="2455200"/>
            <a:ext cx="198144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Times New Roman"/>
              </a:rPr>
              <a:t>has person l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0" lang="es-ES_tradnl" sz="1400" spc="-1" strike="noStrike">
                <a:solidFill>
                  <a:srgbClr val="000099"/>
                </a:solidFill>
                <a:latin typeface="Times New Roman"/>
              </a:rPr>
              <a:t>/ lea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54360" y="1498680"/>
            <a:ext cx="52862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122544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Times New Roman"/>
              </a:rPr>
              <a:t>has associated e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200600">
            <a:off x="2771280" y="2147400"/>
            <a:ext cx="237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Times New Roman"/>
              </a:rPr>
              <a:t>is deliver in / has associ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238880" y="2381400"/>
            <a:ext cx="0" cy="909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568840" y="4812840"/>
            <a:ext cx="2260800" cy="121284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9908600">
            <a:off x="5781960" y="5312880"/>
            <a:ext cx="212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Times New Roman"/>
              </a:rPr>
              <a:t>generates / is generat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3046200">
            <a:off x="1824480" y="377640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Times New Roman"/>
              </a:rPr>
              <a:t>participates in / is develop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1612440" y="2374560"/>
            <a:ext cx="2349720" cy="279540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465200" y="2368440"/>
            <a:ext cx="0" cy="105408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1929960" y="2349360"/>
            <a:ext cx="2235240" cy="260208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2209320" y="2350800"/>
            <a:ext cx="2133720" cy="243828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928600">
            <a:off x="2101320" y="3245040"/>
            <a:ext cx="239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Times New Roman"/>
              </a:rPr>
              <a:t>leads / has contractor l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2046240"/>
            <a:ext cx="4647960" cy="167652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43280" y="1727280"/>
            <a:ext cx="4991040" cy="182880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346720" y="4814640"/>
            <a:ext cx="1841400" cy="100332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9907400">
            <a:off x="5194800" y="5017680"/>
            <a:ext cx="187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Times New Roman"/>
              </a:rPr>
              <a:t>has authoring 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155600">
            <a:off x="3489120" y="2930040"/>
            <a:ext cx="23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Times New Roman"/>
              </a:rPr>
              <a:t>has associated / is associ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7721640" y="2413080"/>
            <a:ext cx="0" cy="141120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7049520" y="274176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Times New Roman"/>
              </a:rPr>
              <a:t>has associ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76480" y="4152960"/>
            <a:ext cx="440856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342880" y="4755960"/>
            <a:ext cx="1385640" cy="74268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687200">
            <a:off x="2361600" y="492084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Times New Roman"/>
              </a:rPr>
              <a:t>is contact person / has contact pers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45600">
            <a:off x="4356000" y="387936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Times New Roman"/>
              </a:rPr>
              <a:t>has contact 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156280" y="4789080"/>
            <a:ext cx="1460520" cy="76212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952880" y="4789080"/>
            <a:ext cx="990720" cy="54612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4800">
            <a:off x="5850000" y="25920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Times New Roman"/>
              </a:rPr>
              <a:t>has / is associated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8140680" y="2363760"/>
            <a:ext cx="0" cy="19144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7468920" y="31226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Times New Roman"/>
              </a:rPr>
              <a:t>is associated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9870800">
            <a:off x="5550120" y="5246280"/>
            <a:ext cx="169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Times New Roman"/>
              </a:rPr>
              <a:t>has lead 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9986000">
            <a:off x="5055120" y="4674600"/>
            <a:ext cx="124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Times New Roman"/>
              </a:rPr>
              <a:t>has Q.A. 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2928600">
            <a:off x="1956240" y="3488400"/>
            <a:ext cx="239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Times New Roman"/>
              </a:rPr>
              <a:t>has involved partner / works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939960" y="2363400"/>
            <a:ext cx="0" cy="191772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60240" y="2351160"/>
            <a:ext cx="0" cy="227808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63000" y="272736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Times New Roman"/>
              </a:rPr>
              <a:t>works in / has p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-541800" y="29736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Times New Roman"/>
              </a:rPr>
              <a:t>is involved in / has p l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-795600" y="3252960"/>
            <a:ext cx="25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Times New Roman"/>
              </a:rPr>
              <a:t>is WP leader / has person l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495360" y="1219320"/>
            <a:ext cx="7581960" cy="4647960"/>
            <a:chOff x="495360" y="1219320"/>
            <a:chExt cx="7581960" cy="4647960"/>
          </a:xfrm>
        </p:grpSpPr>
        <p:sp>
          <p:nvSpPr>
            <p:cNvPr id="203" name=""/>
            <p:cNvSpPr/>
            <p:nvPr/>
          </p:nvSpPr>
          <p:spPr>
            <a:xfrm>
              <a:off x="1828800" y="4495680"/>
              <a:ext cx="1752480" cy="1295640"/>
            </a:xfrm>
            <a:prstGeom prst="ellipse">
              <a:avLst/>
            </a:prstGeom>
            <a:solidFill>
              <a:srgbClr val="ffffe5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5360" y="1219320"/>
              <a:ext cx="5016600" cy="2298600"/>
            </a:xfrm>
            <a:prstGeom prst="ellipse">
              <a:avLst/>
            </a:prstGeom>
            <a:solidFill>
              <a:srgbClr val="ffffe5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48520" y="4419720"/>
              <a:ext cx="1828800" cy="1447560"/>
            </a:xfrm>
            <a:prstGeom prst="ellipse">
              <a:avLst/>
            </a:prstGeom>
            <a:solidFill>
              <a:srgbClr val="ffffe5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10080" y="3657600"/>
              <a:ext cx="1905120" cy="685800"/>
            </a:xfrm>
            <a:prstGeom prst="wedgeEllipseCallout">
              <a:avLst>
                <a:gd name="adj1" fmla="val 31583"/>
                <a:gd name="adj2" fmla="val 121759"/>
              </a:avLst>
            </a:prstGeom>
            <a:solidFill>
              <a:srgbClr val="d9f1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imes New Roman"/>
                </a:rPr>
                <a:t>Docum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imes New Roman"/>
                </a:rPr>
                <a:t>Ont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57600" y="4191120"/>
              <a:ext cx="1295280" cy="685800"/>
            </a:xfrm>
            <a:prstGeom prst="wedgeEllipseCallout">
              <a:avLst>
                <a:gd name="adj1" fmla="val -88847"/>
                <a:gd name="adj2" fmla="val 66203"/>
              </a:avLst>
            </a:prstGeom>
            <a:solidFill>
              <a:srgbClr val="d9f1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imes New Roman"/>
                </a:rPr>
                <a:t>Pers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imes New Roman"/>
                </a:rPr>
                <a:t>Ont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19920" y="2286000"/>
              <a:ext cx="1295280" cy="685800"/>
            </a:xfrm>
            <a:prstGeom prst="wedgeEllipseCallout">
              <a:avLst>
                <a:gd name="adj1" fmla="val -125120"/>
                <a:gd name="adj2" fmla="val 19907"/>
              </a:avLst>
            </a:prstGeom>
            <a:solidFill>
              <a:srgbClr val="d9f1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imes New Roman"/>
                </a:rPr>
                <a:t>Pro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imes New Roman"/>
                </a:rPr>
                <a:t>Ont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Relationships between Person, Project and Documenta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731600" y="1821240"/>
            <a:ext cx="3296160" cy="1380960"/>
            <a:chOff x="1731600" y="1821240"/>
            <a:chExt cx="3296160" cy="1380960"/>
          </a:xfrm>
        </p:grpSpPr>
        <p:sp>
          <p:nvSpPr>
            <p:cNvPr id="211" name=""/>
            <p:cNvSpPr/>
            <p:nvPr/>
          </p:nvSpPr>
          <p:spPr>
            <a:xfrm>
              <a:off x="4213080" y="1923120"/>
              <a:ext cx="814680" cy="2764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Times New Roman"/>
                </a:rPr>
                <a:t>Milest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77920" y="1821240"/>
              <a:ext cx="1082880" cy="2764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Times New Roman"/>
                </a:rPr>
                <a:t>WP work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23880" y="2925720"/>
              <a:ext cx="100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99"/>
                  </a:solidFill>
                  <a:latin typeface="Times New Roman"/>
                </a:rPr>
                <a:t>is made up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4" name=""/>
            <p:cNvCxnSpPr>
              <a:stCxn id="215" idx="0"/>
              <a:endCxn id="211" idx="2"/>
            </p:cNvCxnSpPr>
            <p:nvPr/>
          </p:nvCxnSpPr>
          <p:spPr>
            <a:xfrm flipH="1" flipV="1" rot="5400000">
              <a:off x="2921400" y="1046520"/>
              <a:ext cx="510480" cy="2890080"/>
            </a:xfrm>
            <a:prstGeom prst="bentConnector3">
              <a:avLst>
                <a:gd name="adj1" fmla="val 24558"/>
              </a:avLst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</p:cxnSp>
        <p:sp>
          <p:nvSpPr>
            <p:cNvPr id="216" name=""/>
            <p:cNvSpPr/>
            <p:nvPr/>
          </p:nvSpPr>
          <p:spPr>
            <a:xfrm>
              <a:off x="2633400" y="2120760"/>
              <a:ext cx="1110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99"/>
                  </a:solidFill>
                  <a:latin typeface="Times New Roman"/>
                </a:rPr>
                <a:t>has participan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99"/>
                  </a:solidFill>
                  <a:latin typeface="Times New Roman"/>
                </a:rPr>
                <a:t>with workloa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7" name=""/>
            <p:cNvCxnSpPr>
              <a:stCxn id="215" idx="0"/>
              <a:endCxn id="212" idx="2"/>
            </p:cNvCxnSpPr>
            <p:nvPr/>
          </p:nvCxnSpPr>
          <p:spPr>
            <a:xfrm flipH="1" flipV="1" rot="5400000">
              <a:off x="1869480" y="1996560"/>
              <a:ext cx="612000" cy="888120"/>
            </a:xfrm>
            <a:prstGeom prst="bentConnector3">
              <a:avLst>
                <a:gd name="adj1" fmla="val 49852"/>
              </a:avLst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18" name=""/>
            <p:cNvCxnSpPr>
              <a:stCxn id="215" idx="3"/>
              <a:endCxn id="219" idx="1"/>
            </p:cNvCxnSpPr>
            <p:nvPr/>
          </p:nvCxnSpPr>
          <p:spPr>
            <a:xfrm>
              <a:off x="2319120" y="2922120"/>
              <a:ext cx="1254600" cy="1080"/>
            </a:xfrm>
            <a:prstGeom prst="bentConnector2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</p:cxnSp>
        <p:sp>
          <p:nvSpPr>
            <p:cNvPr id="220" name=""/>
            <p:cNvSpPr/>
            <p:nvPr/>
          </p:nvSpPr>
          <p:spPr>
            <a:xfrm>
              <a:off x="4599360" y="23623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99"/>
                  </a:solidFill>
                  <a:latin typeface="Times New Roman"/>
                </a:rPr>
                <a:t>h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718280" y="1376280"/>
            <a:ext cx="6130080" cy="3901320"/>
            <a:chOff x="1718280" y="1376280"/>
            <a:chExt cx="6130080" cy="3901320"/>
          </a:xfrm>
        </p:grpSpPr>
        <p:sp>
          <p:nvSpPr>
            <p:cNvPr id="222" name=""/>
            <p:cNvSpPr/>
            <p:nvPr/>
          </p:nvSpPr>
          <p:spPr>
            <a:xfrm>
              <a:off x="6672600" y="5001120"/>
              <a:ext cx="924480" cy="2764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Times New Roman"/>
                </a:rPr>
                <a:t>Deliver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5" idx="0"/>
              <a:endCxn id="222" idx="3"/>
            </p:cNvCxnSpPr>
            <p:nvPr/>
          </p:nvCxnSpPr>
          <p:spPr>
            <a:xfrm flipH="1" rot="16200000">
              <a:off x="3488400" y="989640"/>
              <a:ext cx="2394720" cy="5907960"/>
            </a:xfrm>
            <a:prstGeom prst="bentConnector4">
              <a:avLst>
                <a:gd name="adj1" fmla="val -44820"/>
                <a:gd name="adj2" fmla="val 103540"/>
              </a:avLst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</p:cxnSp>
        <p:sp>
          <p:nvSpPr>
            <p:cNvPr id="224" name=""/>
            <p:cNvSpPr/>
            <p:nvPr/>
          </p:nvSpPr>
          <p:spPr>
            <a:xfrm>
              <a:off x="1718280" y="1376280"/>
              <a:ext cx="104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99"/>
                  </a:solidFill>
                  <a:latin typeface="Times New Roman"/>
                </a:rPr>
                <a:t>has associ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5" name=""/>
            <p:cNvCxnSpPr>
              <a:stCxn id="222" idx="0"/>
              <a:endCxn id="211" idx="3"/>
            </p:cNvCxnSpPr>
            <p:nvPr/>
          </p:nvCxnSpPr>
          <p:spPr>
            <a:xfrm flipV="1" rot="16200000">
              <a:off x="4650840" y="2478600"/>
              <a:ext cx="2902680" cy="2067840"/>
            </a:xfrm>
            <a:prstGeom prst="bentConnector2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</p:cxnSp>
        <p:sp>
          <p:nvSpPr>
            <p:cNvPr id="226" name=""/>
            <p:cNvSpPr/>
            <p:nvPr/>
          </p:nvSpPr>
          <p:spPr>
            <a:xfrm>
              <a:off x="5235480" y="204480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99"/>
                  </a:solidFill>
                  <a:latin typeface="Times New Roman"/>
                </a:rPr>
                <a:t>is deliver 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642760" y="4889520"/>
            <a:ext cx="4493160" cy="903600"/>
            <a:chOff x="2642760" y="4889520"/>
            <a:chExt cx="4493160" cy="903600"/>
          </a:xfrm>
        </p:grpSpPr>
        <p:cxnSp>
          <p:nvCxnSpPr>
            <p:cNvPr id="228" name=""/>
            <p:cNvCxnSpPr>
              <a:stCxn id="229" idx="3"/>
              <a:endCxn id="222" idx="1"/>
            </p:cNvCxnSpPr>
            <p:nvPr/>
          </p:nvCxnSpPr>
          <p:spPr>
            <a:xfrm>
              <a:off x="2997000" y="5140080"/>
              <a:ext cx="3634200" cy="1080"/>
            </a:xfrm>
            <a:prstGeom prst="bentConnector2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</p:cxnSp>
        <p:sp>
          <p:nvSpPr>
            <p:cNvPr id="230" name=""/>
            <p:cNvSpPr/>
            <p:nvPr/>
          </p:nvSpPr>
          <p:spPr>
            <a:xfrm>
              <a:off x="5260320" y="4889520"/>
              <a:ext cx="87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99"/>
                  </a:solidFill>
                  <a:latin typeface="Times New Roman"/>
                </a:rPr>
                <a:t>is author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stCxn id="222" idx="2"/>
              <a:endCxn id="229" idx="2"/>
            </p:cNvCxnSpPr>
            <p:nvPr/>
          </p:nvCxnSpPr>
          <p:spPr>
            <a:xfrm rot="5400000">
              <a:off x="4888080" y="3069360"/>
              <a:ext cx="2160" cy="4493520"/>
            </a:xfrm>
            <a:prstGeom prst="bentConnector3">
              <a:avLst>
                <a:gd name="adj1" fmla="val 13200000"/>
              </a:avLst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</p:cxnSp>
        <p:sp>
          <p:nvSpPr>
            <p:cNvPr id="232" name=""/>
            <p:cNvSpPr/>
            <p:nvPr/>
          </p:nvSpPr>
          <p:spPr>
            <a:xfrm>
              <a:off x="4195440" y="5516640"/>
              <a:ext cx="130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99"/>
                  </a:solidFill>
                  <a:latin typeface="Times New Roman"/>
                </a:rPr>
                <a:t>has contact pers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934200" y="2783520"/>
            <a:ext cx="4006440" cy="2494080"/>
            <a:chOff x="934200" y="2783520"/>
            <a:chExt cx="4006440" cy="2494080"/>
          </a:xfrm>
        </p:grpSpPr>
        <p:sp>
          <p:nvSpPr>
            <p:cNvPr id="229" name=""/>
            <p:cNvSpPr/>
            <p:nvPr/>
          </p:nvSpPr>
          <p:spPr>
            <a:xfrm>
              <a:off x="2327760" y="5001120"/>
              <a:ext cx="628920" cy="2764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Times New Roman"/>
                </a:rPr>
                <a:t>Pers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84400" y="2783520"/>
              <a:ext cx="1095120" cy="2764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Times New Roman"/>
                </a:rPr>
                <a:t>Workpack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11880" y="2783520"/>
              <a:ext cx="503640" cy="2764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Times New Roman"/>
                </a:rPr>
                <a:t>Tas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4200">
              <a:off x="1823400" y="4030560"/>
              <a:ext cx="70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99"/>
                  </a:solidFill>
                  <a:latin typeface="Times New Roman"/>
                </a:rPr>
                <a:t>works 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5" name=""/>
            <p:cNvCxnSpPr>
              <a:stCxn id="229" idx="0"/>
              <a:endCxn id="215" idx="2"/>
            </p:cNvCxnSpPr>
            <p:nvPr/>
          </p:nvCxnSpPr>
          <p:spPr>
            <a:xfrm flipV="1" rot="16200000">
              <a:off x="1253520" y="3574440"/>
              <a:ext cx="1867680" cy="911880"/>
            </a:xfrm>
            <a:prstGeom prst="bentConnector3">
              <a:avLst>
                <a:gd name="adj1" fmla="val 49990"/>
              </a:avLst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6" name=""/>
            <p:cNvCxnSpPr>
              <a:stCxn id="229" idx="0"/>
              <a:endCxn id="219" idx="2"/>
            </p:cNvCxnSpPr>
            <p:nvPr/>
          </p:nvCxnSpPr>
          <p:spPr>
            <a:xfrm flipH="1" flipV="1" rot="5400000">
              <a:off x="2319480" y="3419640"/>
              <a:ext cx="1867680" cy="1221480"/>
            </a:xfrm>
            <a:prstGeom prst="bentConnector3">
              <a:avLst>
                <a:gd name="adj1" fmla="val 49990"/>
              </a:avLst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</p:cxnSp>
        <p:sp>
          <p:nvSpPr>
            <p:cNvPr id="237" name=""/>
            <p:cNvSpPr/>
            <p:nvPr/>
          </p:nvSpPr>
          <p:spPr>
            <a:xfrm rot="4200">
              <a:off x="2689560" y="4068360"/>
              <a:ext cx="101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99"/>
                  </a:solidFill>
                  <a:latin typeface="Times New Roman"/>
                </a:rPr>
                <a:t>is involved 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8" name=""/>
            <p:cNvCxnSpPr>
              <a:stCxn id="229" idx="1"/>
              <a:endCxn id="215" idx="1"/>
            </p:cNvCxnSpPr>
            <p:nvPr/>
          </p:nvCxnSpPr>
          <p:spPr>
            <a:xfrm rot="10800000">
              <a:off x="1143720" y="2921760"/>
              <a:ext cx="1143720" cy="2218680"/>
            </a:xfrm>
            <a:prstGeom prst="bentConnector3">
              <a:avLst>
                <a:gd name="adj1" fmla="val 118324"/>
              </a:avLst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9" name=""/>
            <p:cNvCxnSpPr>
              <a:stCxn id="229" idx="3"/>
              <a:endCxn id="219" idx="3"/>
            </p:cNvCxnSpPr>
            <p:nvPr/>
          </p:nvCxnSpPr>
          <p:spPr>
            <a:xfrm flipV="1">
              <a:off x="2997360" y="2921760"/>
              <a:ext cx="1157400" cy="2218680"/>
            </a:xfrm>
            <a:prstGeom prst="bentConnector3">
              <a:avLst>
                <a:gd name="adj1" fmla="val 118139"/>
              </a:avLst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</p:cxnSp>
        <p:sp>
          <p:nvSpPr>
            <p:cNvPr id="240" name=""/>
            <p:cNvSpPr/>
            <p:nvPr/>
          </p:nvSpPr>
          <p:spPr>
            <a:xfrm rot="4200">
              <a:off x="4447080" y="3352320"/>
              <a:ext cx="49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99"/>
                  </a:solidFill>
                  <a:latin typeface="Times New Roman"/>
                </a:rPr>
                <a:t>lea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4200">
              <a:off x="938160" y="4868640"/>
              <a:ext cx="95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99"/>
                  </a:solidFill>
                  <a:latin typeface="Times New Roman"/>
                </a:rPr>
                <a:t>is WP l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Statistics. Knowledge Web Ontologi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04920" y="1295280"/>
          <a:ext cx="8534160" cy="478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8534160" cy="47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3124080" y="1676520"/>
            <a:ext cx="3657600" cy="1904760"/>
          </a:xfrm>
          <a:prstGeom prst="wedgeEllipseCallout">
            <a:avLst>
              <a:gd name="adj1" fmla="val 86763"/>
              <a:gd name="adj2" fmla="val 76250"/>
            </a:avLst>
          </a:prstGeom>
          <a:solidFill>
            <a:srgbClr val="ffffdd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00"/>
                </a:solidFill>
                <a:latin typeface="Times New Roman"/>
              </a:rPr>
              <a:t>103 Conce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00"/>
                </a:solidFill>
                <a:latin typeface="Times New Roman"/>
              </a:rPr>
              <a:t>136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00"/>
                </a:solidFill>
                <a:latin typeface="Times New Roman"/>
              </a:rPr>
              <a:t>51 Ad-hoc Re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00"/>
                </a:solidFill>
                <a:latin typeface="Times New Roman"/>
              </a:rPr>
              <a:t>568 Inst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List of Axiom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88840" y="1293840"/>
            <a:ext cx="7417080" cy="3056040"/>
          </a:xfrm>
          <a:prstGeom prst="rect">
            <a:avLst/>
          </a:prstGeom>
          <a:solidFill>
            <a:srgbClr val="f7f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ES" sz="1600" spc="-1" strike="noStrike" u="sng">
                <a:solidFill>
                  <a:srgbClr val="000099"/>
                </a:solidFill>
                <a:uFillTx/>
                <a:latin typeface="Times New Roman"/>
              </a:rPr>
              <a:t>Opposite/Inverse Ad-Hoc Re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99"/>
                </a:solidFill>
                <a:latin typeface="Times New Roman"/>
              </a:rPr>
              <a:t>If </a:t>
            </a:r>
            <a:r>
              <a:rPr b="1" lang="es-ES" sz="1600" spc="-1" strike="noStrike">
                <a:solidFill>
                  <a:srgbClr val="000099"/>
                </a:solidFill>
                <a:latin typeface="Times New Roman"/>
              </a:rPr>
              <a:t>Person1 is involved in Task1</a:t>
            </a:r>
            <a:r>
              <a:rPr b="0" lang="es-ES" sz="1600" spc="-1" strike="noStrike">
                <a:solidFill>
                  <a:srgbClr val="000099"/>
                </a:solidFill>
                <a:latin typeface="Times New Roman"/>
              </a:rPr>
              <a:t>, then </a:t>
            </a:r>
            <a:r>
              <a:rPr b="1" lang="es-ES" sz="1600" spc="-1" strike="noStrike">
                <a:solidFill>
                  <a:srgbClr val="000099"/>
                </a:solidFill>
                <a:latin typeface="Times New Roman"/>
              </a:rPr>
              <a:t>Task1 team is formed by Person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99"/>
                </a:solidFill>
                <a:latin typeface="Times New Roman"/>
              </a:rPr>
              <a:t>If </a:t>
            </a:r>
            <a:r>
              <a:rPr b="1" lang="es-ES" sz="1600" spc="-1" strike="noStrike">
                <a:solidFill>
                  <a:srgbClr val="000099"/>
                </a:solidFill>
                <a:latin typeface="Times New Roman"/>
              </a:rPr>
              <a:t>Person2 is contact person of Organization2</a:t>
            </a:r>
            <a:r>
              <a:rPr b="0" lang="es-ES" sz="1600" spc="-1" strike="noStrike">
                <a:solidFill>
                  <a:srgbClr val="000099"/>
                </a:solidFill>
                <a:latin typeface="Times New Roman"/>
              </a:rPr>
              <a:t>, then </a:t>
            </a:r>
            <a:r>
              <a:rPr b="1" lang="es-ES" sz="1600" spc="-1" strike="noStrike">
                <a:solidFill>
                  <a:srgbClr val="000099"/>
                </a:solidFill>
                <a:latin typeface="Times New Roman"/>
              </a:rPr>
              <a:t>Organization2 has contact person Perso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ES" sz="1600" spc="-1" strike="noStrike" u="sng">
                <a:solidFill>
                  <a:srgbClr val="000099"/>
                </a:solidFill>
                <a:uFillTx/>
                <a:latin typeface="Times New Roman"/>
              </a:rPr>
              <a:t>Transitive Ad-Hoc Re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99"/>
                </a:solidFill>
                <a:latin typeface="Times New Roman"/>
              </a:rPr>
              <a:t>If </a:t>
            </a:r>
            <a:r>
              <a:rPr b="1" lang="es-ES" sz="1600" spc="-1" strike="noStrike">
                <a:solidFill>
                  <a:srgbClr val="000099"/>
                </a:solidFill>
                <a:latin typeface="Times New Roman"/>
              </a:rPr>
              <a:t>Person-A leads Task-1</a:t>
            </a:r>
            <a:r>
              <a:rPr b="0" lang="es-ES" sz="1600" spc="-1" strike="noStrike">
                <a:solidFill>
                  <a:srgbClr val="000099"/>
                </a:solidFill>
                <a:latin typeface="Times New Roman"/>
              </a:rPr>
              <a:t>, then </a:t>
            </a:r>
            <a:r>
              <a:rPr b="1" lang="es-ES" sz="1600" spc="-1" strike="noStrike">
                <a:solidFill>
                  <a:srgbClr val="000099"/>
                </a:solidFill>
                <a:latin typeface="Times New Roman"/>
              </a:rPr>
              <a:t>Person-A is involved in Task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99"/>
                </a:solidFill>
                <a:latin typeface="Times New Roman"/>
              </a:rPr>
              <a:t>If </a:t>
            </a:r>
            <a:r>
              <a:rPr b="1" lang="es-ES" sz="1600" spc="-1" strike="noStrike">
                <a:solidFill>
                  <a:srgbClr val="000099"/>
                </a:solidFill>
                <a:latin typeface="Times New Roman"/>
              </a:rPr>
              <a:t>Person-B is WP leader in Workpackage-1</a:t>
            </a:r>
            <a:r>
              <a:rPr b="0" lang="es-ES" sz="1600" spc="-1" strike="noStrike">
                <a:solidFill>
                  <a:srgbClr val="000099"/>
                </a:solidFill>
                <a:latin typeface="Times New Roman"/>
              </a:rPr>
              <a:t>, then </a:t>
            </a:r>
            <a:r>
              <a:rPr b="1" lang="es-ES" sz="1600" spc="-1" strike="noStrike">
                <a:solidFill>
                  <a:srgbClr val="000099"/>
                </a:solidFill>
                <a:latin typeface="Times New Roman"/>
              </a:rPr>
              <a:t>Person-B works in Workpackage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955800"/>
            <a:ext cx="1523880" cy="307080"/>
          </a:xfrm>
          <a:prstGeom prst="rect">
            <a:avLst/>
          </a:prstGeom>
          <a:solidFill>
            <a:srgbClr val="fff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Current Axio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88840" y="4876920"/>
            <a:ext cx="7417080" cy="1270440"/>
          </a:xfrm>
          <a:prstGeom prst="rect">
            <a:avLst/>
          </a:prstGeom>
          <a:solidFill>
            <a:srgbClr val="f7f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000099"/>
                </a:solidFill>
                <a:latin typeface="Times New Roman"/>
              </a:rPr>
              <a:t>if “Delivery date” of Deliverable-D is two weeks after actual time, send an e-mail to Person-A “contact person” of Deliverable-D and Person-B that is “contact person” of Organization-O that is “QA” of the Deliverable-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990000"/>
                </a:solidFill>
                <a:latin typeface="Times New Roman"/>
              </a:rPr>
              <a:t>??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4495680"/>
            <a:ext cx="1523880" cy="307080"/>
          </a:xfrm>
          <a:prstGeom prst="rect">
            <a:avLst/>
          </a:prstGeom>
          <a:solidFill>
            <a:srgbClr val="fff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Future Axio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Table of Content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391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WP Goals, Tasks and Delive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ODES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Semantic Portal Ont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00"/>
                </a:solidFill>
                <a:latin typeface="Times New Roman"/>
              </a:rPr>
              <a:t>Funciona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Semantic Driven Visu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Statistics of KnowledgeWeb 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Future Portal Requisites &amp; Functiona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09480" y="990720"/>
            <a:ext cx="7772400" cy="5257800"/>
          </a:xfrm>
          <a:prstGeom prst="rect">
            <a:avLst/>
          </a:prstGeom>
          <a:gradFill rotWithShape="0">
            <a:gsLst>
              <a:gs pos="0">
                <a:srgbClr val="fefed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35120" y="1523880"/>
            <a:ext cx="7494480" cy="2819520"/>
          </a:xfrm>
          <a:prstGeom prst="rect">
            <a:avLst/>
          </a:prstGeom>
          <a:gradFill rotWithShape="0">
            <a:gsLst>
              <a:gs pos="0">
                <a:srgbClr val="bff1e4"/>
              </a:gs>
              <a:gs pos="100000">
                <a:srgbClr val="00cc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Functionaliti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448000" y="2025720"/>
            <a:ext cx="2066760" cy="797040"/>
            <a:chOff x="2448000" y="2025720"/>
            <a:chExt cx="2066760" cy="797040"/>
          </a:xfrm>
        </p:grpSpPr>
        <p:sp>
          <p:nvSpPr>
            <p:cNvPr id="257" name=""/>
            <p:cNvSpPr/>
            <p:nvPr/>
          </p:nvSpPr>
          <p:spPr>
            <a:xfrm>
              <a:off x="2448000" y="2057400"/>
              <a:ext cx="2039760" cy="762120"/>
            </a:xfrm>
            <a:prstGeom prst="rect">
              <a:avLst/>
            </a:prstGeom>
            <a:gradFill rotWithShape="0">
              <a:gsLst>
                <a:gs pos="0">
                  <a:srgbClr val="feecec"/>
                </a:gs>
                <a:gs pos="100000">
                  <a:srgbClr val="ffcc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16040" y="2325600"/>
              <a:ext cx="199872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ff99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Instance visualiza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ff99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Instance navig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52320" y="2025720"/>
              <a:ext cx="173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99"/>
                  </a:solidFill>
                  <a:uFillTx/>
                  <a:latin typeface="Arial"/>
                </a:rPr>
                <a:t>Guest (extrane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682200" y="1523880"/>
            <a:ext cx="35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Arial"/>
              </a:rPr>
              <a:t>Community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Arial"/>
              </a:rPr>
              <a:t>users (intra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8760" y="99072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Arial"/>
              </a:rPr>
              <a:t>Administ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3160" y="47847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562640" y="2025720"/>
            <a:ext cx="3453120" cy="797040"/>
            <a:chOff x="4562640" y="2025720"/>
            <a:chExt cx="3453120" cy="797040"/>
          </a:xfrm>
        </p:grpSpPr>
        <p:sp>
          <p:nvSpPr>
            <p:cNvPr id="264" name=""/>
            <p:cNvSpPr/>
            <p:nvPr/>
          </p:nvSpPr>
          <p:spPr>
            <a:xfrm>
              <a:off x="4562640" y="2057400"/>
              <a:ext cx="3429000" cy="762120"/>
            </a:xfrm>
            <a:prstGeom prst="rect">
              <a:avLst/>
            </a:prstGeom>
            <a:gradFill rotWithShape="0">
              <a:gsLst>
                <a:gs pos="0">
                  <a:srgbClr val="feecec"/>
                </a:gs>
                <a:gs pos="100000">
                  <a:srgbClr val="ffcc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74600" y="2325600"/>
              <a:ext cx="334116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ff99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Ontologies implementation (RDFS, OW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ff99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RDF instance implemen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86760" y="2025720"/>
              <a:ext cx="173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99"/>
                  </a:solidFill>
                  <a:uFillTx/>
                  <a:latin typeface="Arial"/>
                </a:rPr>
                <a:t>Agent (extrane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990720" y="2971800"/>
            <a:ext cx="2301840" cy="1295280"/>
            <a:chOff x="990720" y="2971800"/>
            <a:chExt cx="2301840" cy="1295280"/>
          </a:xfrm>
        </p:grpSpPr>
        <p:sp>
          <p:nvSpPr>
            <p:cNvPr id="268" name=""/>
            <p:cNvSpPr/>
            <p:nvPr/>
          </p:nvSpPr>
          <p:spPr>
            <a:xfrm>
              <a:off x="990720" y="2971800"/>
              <a:ext cx="2286000" cy="1295280"/>
            </a:xfrm>
            <a:prstGeom prst="rect">
              <a:avLst/>
            </a:prstGeom>
            <a:gradFill rotWithShape="0">
              <a:gsLst>
                <a:gs pos="0">
                  <a:srgbClr val="bff1e4"/>
                </a:gs>
                <a:gs pos="100000">
                  <a:srgbClr val="00cc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92880" y="2971800"/>
              <a:ext cx="134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99"/>
                  </a:solidFill>
                  <a:uFillTx/>
                  <a:latin typeface="Arial"/>
                </a:rPr>
                <a:t>WP Lead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50120" y="3276720"/>
              <a:ext cx="2242440" cy="93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ff99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Instance Edition/inser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300"/>
                </a:spcBef>
                <a:buClr>
                  <a:srgbClr val="ff99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Docu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300"/>
                </a:spcBef>
                <a:buClr>
                  <a:srgbClr val="ff99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Tas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300"/>
                </a:spcBef>
                <a:buClr>
                  <a:srgbClr val="ff99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341160" y="2940120"/>
            <a:ext cx="2314800" cy="1326960"/>
            <a:chOff x="3341160" y="2940120"/>
            <a:chExt cx="2314800" cy="1326960"/>
          </a:xfrm>
        </p:grpSpPr>
        <p:sp>
          <p:nvSpPr>
            <p:cNvPr id="272" name=""/>
            <p:cNvSpPr/>
            <p:nvPr/>
          </p:nvSpPr>
          <p:spPr>
            <a:xfrm>
              <a:off x="3352680" y="2971800"/>
              <a:ext cx="2286000" cy="1295280"/>
            </a:xfrm>
            <a:prstGeom prst="rect">
              <a:avLst/>
            </a:prstGeom>
            <a:gradFill rotWithShape="0">
              <a:gsLst>
                <a:gs pos="0">
                  <a:srgbClr val="bff1e4"/>
                </a:gs>
                <a:gs pos="100000">
                  <a:srgbClr val="00cc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41160" y="2940120"/>
              <a:ext cx="153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99"/>
                  </a:solidFill>
                  <a:uFillTx/>
                  <a:latin typeface="Arial"/>
                </a:rPr>
                <a:t>Organiz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13520" y="3249720"/>
              <a:ext cx="2242440" cy="7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ff99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Instance Edition/inser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300"/>
                </a:spcBef>
                <a:buClr>
                  <a:srgbClr val="ff99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Pers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300"/>
                </a:spcBef>
                <a:buClr>
                  <a:srgbClr val="ff99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5699520" y="2940120"/>
            <a:ext cx="2301480" cy="1326960"/>
            <a:chOff x="5699520" y="2940120"/>
            <a:chExt cx="2301480" cy="1326960"/>
          </a:xfrm>
        </p:grpSpPr>
        <p:sp>
          <p:nvSpPr>
            <p:cNvPr id="276" name=""/>
            <p:cNvSpPr/>
            <p:nvPr/>
          </p:nvSpPr>
          <p:spPr>
            <a:xfrm>
              <a:off x="5715000" y="2971800"/>
              <a:ext cx="2286000" cy="1295280"/>
            </a:xfrm>
            <a:prstGeom prst="rect">
              <a:avLst/>
            </a:prstGeom>
            <a:gradFill rotWithShape="0">
              <a:gsLst>
                <a:gs pos="0">
                  <a:srgbClr val="bff1e4"/>
                </a:gs>
                <a:gs pos="100000">
                  <a:srgbClr val="00cc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701320" y="2940120"/>
              <a:ext cx="112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99"/>
                  </a:solidFill>
                  <a:uFillTx/>
                  <a:latin typeface="Arial"/>
                </a:rPr>
                <a:t>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99520" y="3249720"/>
              <a:ext cx="2242440" cy="7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ff99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Instance Edition/inser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300"/>
                </a:spcBef>
                <a:buClr>
                  <a:srgbClr val="ff99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Docu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300"/>
                </a:spcBef>
                <a:buClr>
                  <a:srgbClr val="ff99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762120" y="4572000"/>
            <a:ext cx="2971800" cy="1382400"/>
            <a:chOff x="762120" y="4572000"/>
            <a:chExt cx="2971800" cy="1382400"/>
          </a:xfrm>
        </p:grpSpPr>
        <p:sp>
          <p:nvSpPr>
            <p:cNvPr id="280" name=""/>
            <p:cNvSpPr/>
            <p:nvPr/>
          </p:nvSpPr>
          <p:spPr>
            <a:xfrm>
              <a:off x="762120" y="4572000"/>
              <a:ext cx="2971800" cy="1371240"/>
            </a:xfrm>
            <a:prstGeom prst="rect">
              <a:avLst/>
            </a:prstGeom>
            <a:gradFill rotWithShape="0">
              <a:gsLst>
                <a:gs pos="0">
                  <a:srgbClr val="fefed3"/>
                </a:gs>
                <a:gs pos="100000">
                  <a:srgbClr val="ffff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33760" y="4652640"/>
              <a:ext cx="289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99"/>
                  </a:solidFill>
                  <a:uFillTx/>
                  <a:latin typeface="Arial"/>
                </a:rPr>
                <a:t>Portal Administrator (Ange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95680" y="5028840"/>
              <a:ext cx="283680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ff99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Arial"/>
                </a:rPr>
                <a:t>Permission 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ff99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Arial"/>
                </a:rPr>
                <a:t>Instance 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ff99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Arial"/>
                </a:rPr>
                <a:t>User 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191120" y="4572000"/>
            <a:ext cx="4067640" cy="1371600"/>
            <a:chOff x="4191120" y="4572000"/>
            <a:chExt cx="4067640" cy="1371600"/>
          </a:xfrm>
        </p:grpSpPr>
        <p:sp>
          <p:nvSpPr>
            <p:cNvPr id="284" name=""/>
            <p:cNvSpPr/>
            <p:nvPr/>
          </p:nvSpPr>
          <p:spPr>
            <a:xfrm>
              <a:off x="4191120" y="4572000"/>
              <a:ext cx="4025880" cy="1371600"/>
            </a:xfrm>
            <a:prstGeom prst="rect">
              <a:avLst/>
            </a:prstGeom>
            <a:gradFill rotWithShape="0">
              <a:gsLst>
                <a:gs pos="0">
                  <a:srgbClr val="fefed3"/>
                </a:gs>
                <a:gs pos="100000">
                  <a:srgbClr val="ffff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63480" y="4653000"/>
              <a:ext cx="39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99"/>
                  </a:solidFill>
                  <a:uFillTx/>
                  <a:latin typeface="Arial"/>
                </a:rPr>
                <a:t>Ontology Engineer Manager (MCarme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26480" y="5029200"/>
              <a:ext cx="28000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ff99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Arial"/>
                </a:rPr>
                <a:t>Ontology mod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ff99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Arial"/>
                </a:rPr>
                <a:t>Ontologies 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ODESew Architectur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2280" y="1809720"/>
            <a:ext cx="8686800" cy="4438800"/>
          </a:xfrm>
          <a:prstGeom prst="rect">
            <a:avLst/>
          </a:prstGeom>
          <a:solidFill>
            <a:srgbClr val="dddddd">
              <a:alpha val="50000"/>
            </a:srgbClr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1878120"/>
            <a:ext cx="684000" cy="2617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imes New Roman"/>
              </a:rPr>
              <a:t>Infer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imes New Roman"/>
              </a:rPr>
              <a:t>eng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4920" y="5565600"/>
            <a:ext cx="8339040" cy="5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60680"/>
            <a:ext cx="3048120" cy="177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Export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81280" y="3311640"/>
            <a:ext cx="381240" cy="2444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OW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83120" y="4032360"/>
            <a:ext cx="569880" cy="2174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X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2394000"/>
            <a:ext cx="0" cy="14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80880" y="5497200"/>
            <a:ext cx="8266320" cy="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2560680"/>
            <a:ext cx="1981080" cy="177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mport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49480" y="3062160"/>
            <a:ext cx="366480" cy="2174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OW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92200" y="4032360"/>
            <a:ext cx="717480" cy="2174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X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2440" y="3062160"/>
            <a:ext cx="739800" cy="2174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DAML+O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58800" y="3598920"/>
            <a:ext cx="561960" cy="216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XCAR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2440" y="3322800"/>
            <a:ext cx="1163520" cy="2174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RDF(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4960" y="3913200"/>
            <a:ext cx="1944720" cy="42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ther langu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90720" y="3814920"/>
            <a:ext cx="1440" cy="217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3895560"/>
            <a:ext cx="514440" cy="3463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OK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Prol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0" y="2803680"/>
            <a:ext cx="3048120" cy="15332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ntology langu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70160" y="3338640"/>
            <a:ext cx="343080" cy="2174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O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3008160"/>
            <a:ext cx="513000" cy="216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FLog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86120" y="4032360"/>
            <a:ext cx="455400" cy="2174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373480" y="4032360"/>
            <a:ext cx="455400" cy="2174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J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033800" y="3598920"/>
            <a:ext cx="561960" cy="216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XCAR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0" y="3827520"/>
            <a:ext cx="3048120" cy="509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ther language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68960" y="3814920"/>
            <a:ext cx="1440" cy="217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8840" y="2803680"/>
            <a:ext cx="1950840" cy="15332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tology langu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304920" y="4815000"/>
            <a:ext cx="8330760" cy="522000"/>
            <a:chOff x="304920" y="4815000"/>
            <a:chExt cx="8330760" cy="522000"/>
          </a:xfrm>
        </p:grpSpPr>
        <p:sp>
          <p:nvSpPr>
            <p:cNvPr id="315" name=""/>
            <p:cNvSpPr/>
            <p:nvPr/>
          </p:nvSpPr>
          <p:spPr>
            <a:xfrm>
              <a:off x="6786000" y="4815000"/>
              <a:ext cx="1849680" cy="518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87520" y="4815000"/>
              <a:ext cx="4398120" cy="261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imes New Roman"/>
                </a:rPr>
                <a:t>ODE AP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4920" y="4815000"/>
              <a:ext cx="2082600" cy="518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66360" y="5119200"/>
              <a:ext cx="1276920" cy="21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imes New Roman"/>
                </a:rPr>
                <a:t>Ca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40120" y="5119200"/>
              <a:ext cx="1632240" cy="21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imes New Roman"/>
                </a:rPr>
                <a:t>Consist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543640" y="5119200"/>
              <a:ext cx="1135080" cy="21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imes New Roman"/>
                </a:rPr>
                <a:t>Axi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7924680" y="3462480"/>
            <a:ext cx="635040" cy="2602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ODE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924680" y="2962440"/>
            <a:ext cx="636840" cy="2602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Permiss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924680" y="3995640"/>
            <a:ext cx="635040" cy="2602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S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772400" y="2901960"/>
            <a:ext cx="925560" cy="1428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280" y="990720"/>
            <a:ext cx="5222880" cy="61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38680" y="990720"/>
            <a:ext cx="3257640" cy="61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Figure1.02" descr=""/>
          <p:cNvPicPr/>
          <p:nvPr/>
        </p:nvPicPr>
        <p:blipFill>
          <a:blip r:embed="rId1"/>
          <a:stretch/>
        </p:blipFill>
        <p:spPr>
          <a:xfrm>
            <a:off x="4191120" y="1058760"/>
            <a:ext cx="1089000" cy="4780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908360" y="119700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51c0b"/>
                </a:solidFill>
                <a:latin typeface="Times New Roman"/>
              </a:rPr>
              <a:t>Ontology 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instances" descr=""/>
          <p:cNvPicPr/>
          <p:nvPr/>
        </p:nvPicPr>
        <p:blipFill>
          <a:blip r:embed="rId2"/>
          <a:stretch/>
        </p:blipFill>
        <p:spPr>
          <a:xfrm>
            <a:off x="7315200" y="1058760"/>
            <a:ext cx="1066680" cy="4780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248520" y="5702400"/>
            <a:ext cx="1295280" cy="32544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ebODE-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25760" y="5702400"/>
            <a:ext cx="21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pplication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6880" y="3598920"/>
            <a:ext cx="1163880" cy="216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ODEE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3349800"/>
            <a:ext cx="739800" cy="2174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DAML+O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3963960"/>
            <a:ext cx="914400" cy="2761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2697120"/>
            <a:ext cx="914400" cy="2761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3516480"/>
            <a:ext cx="761760" cy="3427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05720" y="3516480"/>
            <a:ext cx="838080" cy="7236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705720" y="3584520"/>
            <a:ext cx="838080" cy="2761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629400" y="3311640"/>
            <a:ext cx="990720" cy="1025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373480" y="3629160"/>
            <a:ext cx="1595160" cy="21564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RDF(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10080" y="2629080"/>
            <a:ext cx="1143000" cy="1707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924680" y="3995640"/>
            <a:ext cx="685800" cy="273240"/>
          </a:xfrm>
          <a:prstGeom prst="rect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41920" y="396396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WebPic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670440" y="3516480"/>
            <a:ext cx="962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EuroWord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AP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62720" y="3516480"/>
            <a:ext cx="75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Linguisti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Lear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82400" y="3963960"/>
            <a:ext cx="66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OntoTa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38480" y="4471920"/>
            <a:ext cx="96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ODE-Map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20" y="4405320"/>
            <a:ext cx="8305560" cy="2746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89120" y="4370400"/>
            <a:ext cx="24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DE Evolution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Resize%20of%20Logo_WebODE" descr=""/>
          <p:cNvPicPr/>
          <p:nvPr/>
        </p:nvPicPr>
        <p:blipFill>
          <a:blip r:embed="rId3"/>
          <a:stretch/>
        </p:blipFill>
        <p:spPr>
          <a:xfrm>
            <a:off x="457200" y="1058760"/>
            <a:ext cx="1143000" cy="480960"/>
          </a:xfrm>
          <a:prstGeom prst="rect">
            <a:avLst/>
          </a:prstGeom>
          <a:ln w="0">
            <a:noFill/>
          </a:ln>
        </p:spPr>
      </p:pic>
      <p:pic>
        <p:nvPicPr>
          <p:cNvPr id="351" name="Resize%20of%20Logo_ODEEval" descr=""/>
          <p:cNvPicPr/>
          <p:nvPr/>
        </p:nvPicPr>
        <p:blipFill>
          <a:blip r:embed="rId4"/>
          <a:stretch/>
        </p:blipFill>
        <p:spPr>
          <a:xfrm>
            <a:off x="304920" y="3584520"/>
            <a:ext cx="1104840" cy="247680"/>
          </a:xfrm>
          <a:prstGeom prst="rect">
            <a:avLst/>
          </a:prstGeom>
          <a:ln w="0">
            <a:noFill/>
          </a:ln>
        </p:spPr>
      </p:pic>
      <p:pic>
        <p:nvPicPr>
          <p:cNvPr id="352" name="Resize%20of%20Logo_ODESeW" descr=""/>
          <p:cNvPicPr/>
          <p:nvPr/>
        </p:nvPicPr>
        <p:blipFill>
          <a:blip r:embed="rId5"/>
          <a:stretch/>
        </p:blipFill>
        <p:spPr>
          <a:xfrm>
            <a:off x="5867280" y="1058760"/>
            <a:ext cx="1143000" cy="460440"/>
          </a:xfrm>
          <a:prstGeom prst="rect">
            <a:avLst/>
          </a:prstGeom>
          <a:ln w="0">
            <a:noFill/>
          </a:ln>
        </p:spPr>
      </p:pic>
      <p:pic>
        <p:nvPicPr>
          <p:cNvPr id="353" name="Resize%20of%20Logo_ODEDialect" descr=""/>
          <p:cNvPicPr/>
          <p:nvPr/>
        </p:nvPicPr>
        <p:blipFill>
          <a:blip r:embed="rId6"/>
          <a:stretch/>
        </p:blipFill>
        <p:spPr>
          <a:xfrm>
            <a:off x="457200" y="2219400"/>
            <a:ext cx="1143000" cy="3110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228600" y="2219400"/>
            <a:ext cx="5105520" cy="2117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Resize%20of%20Logo_ODELearner" descr=""/>
          <p:cNvPicPr/>
          <p:nvPr/>
        </p:nvPicPr>
        <p:blipFill>
          <a:blip r:embed="rId7"/>
          <a:stretch/>
        </p:blipFill>
        <p:spPr>
          <a:xfrm>
            <a:off x="5410080" y="2219400"/>
            <a:ext cx="1143000" cy="349200"/>
          </a:xfrm>
          <a:prstGeom prst="rect">
            <a:avLst/>
          </a:prstGeom>
          <a:ln w="0">
            <a:noFill/>
          </a:ln>
        </p:spPr>
      </p:pic>
      <p:pic>
        <p:nvPicPr>
          <p:cNvPr id="356" name="Resize%20of%20Logo_ODETag" descr=""/>
          <p:cNvPicPr/>
          <p:nvPr/>
        </p:nvPicPr>
        <p:blipFill>
          <a:blip r:embed="rId8"/>
          <a:stretch/>
        </p:blipFill>
        <p:spPr>
          <a:xfrm>
            <a:off x="6629400" y="2901960"/>
            <a:ext cx="1066680" cy="341280"/>
          </a:xfrm>
          <a:prstGeom prst="rect">
            <a:avLst/>
          </a:prstGeom>
          <a:ln w="0">
            <a:noFill/>
          </a:ln>
        </p:spPr>
      </p:pic>
      <p:pic>
        <p:nvPicPr>
          <p:cNvPr id="357" name="Resize%20of%20Logo_ODESeW" descr=""/>
          <p:cNvPicPr/>
          <p:nvPr/>
        </p:nvPicPr>
        <p:blipFill>
          <a:blip r:embed="rId9"/>
          <a:stretch/>
        </p:blipFill>
        <p:spPr>
          <a:xfrm>
            <a:off x="7772400" y="2492280"/>
            <a:ext cx="795240" cy="3222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5562720" y="3038400"/>
            <a:ext cx="838080" cy="3412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36160" y="3038400"/>
            <a:ext cx="66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Instan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lear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89640" y="2697120"/>
            <a:ext cx="95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ODE-Map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Ontology Popula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25560" y="1295280"/>
            <a:ext cx="738036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Times New Roman"/>
              </a:rPr>
              <a:t>You can access using a </a:t>
            </a:r>
            <a:r>
              <a:rPr b="1" lang="es-ES" sz="2000" spc="-1" strike="noStrike">
                <a:solidFill>
                  <a:srgbClr val="990000"/>
                </a:solidFill>
                <a:latin typeface="Times New Roman"/>
              </a:rPr>
              <a:t>login and a pass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99"/>
                </a:solidFill>
                <a:latin typeface="Times New Roman"/>
              </a:rPr>
              <a:t>Already sent to the contact person of your 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Times New Roman"/>
              </a:rPr>
              <a:t>Each </a:t>
            </a:r>
            <a:r>
              <a:rPr b="1" lang="es-ES" sz="2000" spc="-1" strike="noStrike">
                <a:solidFill>
                  <a:srgbClr val="990000"/>
                </a:solidFill>
                <a:latin typeface="Times New Roman"/>
              </a:rPr>
              <a:t>partner</a:t>
            </a:r>
            <a:r>
              <a:rPr b="1" lang="es-ES" sz="2000" spc="-1" strike="noStrike">
                <a:solidFill>
                  <a:srgbClr val="000099"/>
                </a:solidFill>
                <a:latin typeface="Times New Roman"/>
              </a:rPr>
              <a:t> should populate using the instance ed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99"/>
                </a:solidFill>
                <a:latin typeface="Times New Roman"/>
              </a:rPr>
              <a:t>Person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99"/>
                </a:solidFill>
                <a:latin typeface="Times New Roman"/>
              </a:rPr>
              <a:t>Organization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00"/>
                </a:solidFill>
                <a:latin typeface="Times New Roman"/>
              </a:rPr>
              <a:t>WP leaders</a:t>
            </a:r>
            <a:r>
              <a:rPr b="1" lang="es-ES" sz="2000" spc="-1" strike="noStrike">
                <a:solidFill>
                  <a:srgbClr val="000099"/>
                </a:solidFill>
                <a:latin typeface="Times New Roman"/>
              </a:rPr>
              <a:t> should popul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99"/>
                </a:solidFill>
                <a:latin typeface="Times New Roman"/>
              </a:rPr>
              <a:t>the WP they are leadi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99"/>
                </a:solidFill>
                <a:latin typeface="Times New Roman"/>
              </a:rPr>
              <a:t>main task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99"/>
                </a:solidFill>
                <a:latin typeface="Times New Roman"/>
              </a:rPr>
              <a:t>deliverables produced,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Ontology Conten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64" name="kw" descr=""/>
          <p:cNvPicPr/>
          <p:nvPr/>
        </p:nvPicPr>
        <p:blipFill>
          <a:blip r:embed="rId1"/>
          <a:stretch/>
        </p:blipFill>
        <p:spPr>
          <a:xfrm>
            <a:off x="152280" y="844560"/>
            <a:ext cx="8796600" cy="540396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66760" y="2197080"/>
            <a:ext cx="1676520" cy="3169440"/>
            <a:chOff x="266760" y="2197080"/>
            <a:chExt cx="1676520" cy="3169440"/>
          </a:xfrm>
        </p:grpSpPr>
        <p:sp>
          <p:nvSpPr>
            <p:cNvPr id="366" name=""/>
            <p:cNvSpPr/>
            <p:nvPr/>
          </p:nvSpPr>
          <p:spPr>
            <a:xfrm>
              <a:off x="266760" y="2197080"/>
              <a:ext cx="1676520" cy="1536840"/>
            </a:xfrm>
            <a:prstGeom prst="wedgeRectCallout">
              <a:avLst>
                <a:gd name="adj1" fmla="val 12310"/>
                <a:gd name="adj2" fmla="val 129337"/>
              </a:avLst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10200" y="5029200"/>
              <a:ext cx="98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99"/>
                  </a:solidFill>
                  <a:latin typeface="Times New Roman"/>
                </a:rPr>
                <a:t>Ont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2031840" y="2590920"/>
            <a:ext cx="6658200" cy="3581280"/>
            <a:chOff x="2031840" y="2590920"/>
            <a:chExt cx="6658200" cy="3581280"/>
          </a:xfrm>
        </p:grpSpPr>
        <p:sp>
          <p:nvSpPr>
            <p:cNvPr id="369" name=""/>
            <p:cNvSpPr/>
            <p:nvPr/>
          </p:nvSpPr>
          <p:spPr>
            <a:xfrm>
              <a:off x="2031840" y="2590920"/>
              <a:ext cx="5511960" cy="3581280"/>
            </a:xfrm>
            <a:prstGeom prst="wedgeRectCallout">
              <a:avLst>
                <a:gd name="adj1" fmla="val 57893"/>
                <a:gd name="adj2" fmla="val 35106"/>
              </a:avLst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97160" y="5715000"/>
              <a:ext cx="99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99"/>
                  </a:solidFill>
                  <a:latin typeface="Times New Roman"/>
                </a:rPr>
                <a:t>Inst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62120" y="3032280"/>
            <a:ext cx="7391160" cy="2377800"/>
            <a:chOff x="762120" y="3032280"/>
            <a:chExt cx="7391160" cy="2377800"/>
          </a:xfrm>
        </p:grpSpPr>
        <p:pic>
          <p:nvPicPr>
            <p:cNvPr id="372" name="RDFS" descr=""/>
            <p:cNvPicPr/>
            <p:nvPr/>
          </p:nvPicPr>
          <p:blipFill>
            <a:blip r:embed="rId2"/>
            <a:srcRect l="0" t="3745" r="5279" b="56601"/>
            <a:stretch/>
          </p:blipFill>
          <p:spPr>
            <a:xfrm>
              <a:off x="762120" y="3084480"/>
              <a:ext cx="7391160" cy="23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762120" y="3032280"/>
              <a:ext cx="7391160" cy="2361960"/>
            </a:xfrm>
            <a:prstGeom prst="wedgeRectCallout">
              <a:avLst>
                <a:gd name="adj1" fmla="val -37907"/>
                <a:gd name="adj2" fmla="val -86356"/>
              </a:avLst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429000" y="2666880"/>
            <a:ext cx="5257800" cy="2286000"/>
            <a:chOff x="3429000" y="2666880"/>
            <a:chExt cx="5257800" cy="2286000"/>
          </a:xfrm>
        </p:grpSpPr>
        <p:pic>
          <p:nvPicPr>
            <p:cNvPr id="375" name="RDFMetadata" descr=""/>
            <p:cNvPicPr/>
            <p:nvPr/>
          </p:nvPicPr>
          <p:blipFill>
            <a:blip r:embed="rId3"/>
            <a:srcRect l="0" t="4286" r="0" b="52861"/>
            <a:stretch/>
          </p:blipFill>
          <p:spPr>
            <a:xfrm>
              <a:off x="3429000" y="2666880"/>
              <a:ext cx="52578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3429000" y="2666880"/>
              <a:ext cx="5257800" cy="2286000"/>
            </a:xfrm>
            <a:prstGeom prst="wedgeRectCallout">
              <a:avLst>
                <a:gd name="adj1" fmla="val 37259"/>
                <a:gd name="adj2" fmla="val -67430"/>
              </a:avLst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914400" y="1204920"/>
            <a:ext cx="5505120" cy="623880"/>
            <a:chOff x="914400" y="1204920"/>
            <a:chExt cx="5505120" cy="623880"/>
          </a:xfrm>
        </p:grpSpPr>
        <p:sp>
          <p:nvSpPr>
            <p:cNvPr id="378" name=""/>
            <p:cNvSpPr/>
            <p:nvPr/>
          </p:nvSpPr>
          <p:spPr>
            <a:xfrm>
              <a:off x="914400" y="1371600"/>
              <a:ext cx="3352680" cy="457200"/>
            </a:xfrm>
            <a:prstGeom prst="wedgeRectCallout">
              <a:avLst>
                <a:gd name="adj1" fmla="val 64819"/>
                <a:gd name="adj2" fmla="val -40972"/>
              </a:avLst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4320" y="1204920"/>
              <a:ext cx="1555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99"/>
                  </a:solidFill>
                  <a:latin typeface="Times New Roman"/>
                </a:rPr>
                <a:t>KnowledgeWeb</a:t>
              </a:r>
              <a:br>
                <a:rPr sz="1600"/>
              </a:br>
              <a:r>
                <a:rPr b="1" lang="es-ES" sz="1600" spc="-1" strike="noStrike">
                  <a:solidFill>
                    <a:srgbClr val="000099"/>
                  </a:solidFill>
                  <a:latin typeface="Times New Roman"/>
                </a:rPr>
                <a:t>Ontolog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Enter/editing new informa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81" name="edit_instance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772400" cy="518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82" name=""/>
          <p:cNvGrpSpPr/>
          <p:nvPr/>
        </p:nvGrpSpPr>
        <p:grpSpPr>
          <a:xfrm>
            <a:off x="1676520" y="3124080"/>
            <a:ext cx="4952880" cy="754200"/>
            <a:chOff x="1676520" y="3124080"/>
            <a:chExt cx="4952880" cy="754200"/>
          </a:xfrm>
        </p:grpSpPr>
        <p:pic>
          <p:nvPicPr>
            <p:cNvPr id="383" name="upload" descr=""/>
            <p:cNvPicPr/>
            <p:nvPr/>
          </p:nvPicPr>
          <p:blipFill>
            <a:blip r:embed="rId2"/>
            <a:stretch/>
          </p:blipFill>
          <p:spPr>
            <a:xfrm>
              <a:off x="1676520" y="3124080"/>
              <a:ext cx="2342880" cy="754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84" name=""/>
            <p:cNvSpPr/>
            <p:nvPr/>
          </p:nvSpPr>
          <p:spPr>
            <a:xfrm>
              <a:off x="6019920" y="3200400"/>
              <a:ext cx="609480" cy="22860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4038480" y="3352680"/>
              <a:ext cx="1981440" cy="1526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828800" y="4114800"/>
            <a:ext cx="4419720" cy="1149480"/>
            <a:chOff x="1828800" y="4114800"/>
            <a:chExt cx="4419720" cy="1149480"/>
          </a:xfrm>
        </p:grpSpPr>
        <p:pic>
          <p:nvPicPr>
            <p:cNvPr id="387" name="date" descr=""/>
            <p:cNvPicPr/>
            <p:nvPr/>
          </p:nvPicPr>
          <p:blipFill>
            <a:blip r:embed="rId3"/>
            <a:stretch/>
          </p:blipFill>
          <p:spPr>
            <a:xfrm>
              <a:off x="1828800" y="4114800"/>
              <a:ext cx="1200240" cy="1149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88" name=""/>
            <p:cNvSpPr/>
            <p:nvPr/>
          </p:nvSpPr>
          <p:spPr>
            <a:xfrm>
              <a:off x="5867280" y="4267080"/>
              <a:ext cx="381240" cy="22860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047760" y="4419720"/>
              <a:ext cx="2819160" cy="380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Table of Content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391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00"/>
                </a:solidFill>
                <a:latin typeface="Times New Roman"/>
              </a:rPr>
              <a:t>WP Goals, Tasks and Delive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ODES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Semantic Portal Ont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Funciona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Semantic Driven Visu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Statistics of KnowledgeWeb 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Future Portal Requisites &amp; Functiona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Enter/editing new informa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91" name="edit_instance_relations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58480" cy="4954680"/>
          </a:xfrm>
          <a:prstGeom prst="rect">
            <a:avLst/>
          </a:prstGeom>
          <a:ln w="0">
            <a:noFill/>
          </a:ln>
        </p:spPr>
      </p:pic>
      <p:grpSp>
        <p:nvGrpSpPr>
          <p:cNvPr id="392" name=""/>
          <p:cNvGrpSpPr/>
          <p:nvPr/>
        </p:nvGrpSpPr>
        <p:grpSpPr>
          <a:xfrm>
            <a:off x="4037400" y="5029200"/>
            <a:ext cx="3429360" cy="685800"/>
            <a:chOff x="4037400" y="5029200"/>
            <a:chExt cx="3429360" cy="685800"/>
          </a:xfrm>
        </p:grpSpPr>
        <p:grpSp>
          <p:nvGrpSpPr>
            <p:cNvPr id="393" name=""/>
            <p:cNvGrpSpPr/>
            <p:nvPr/>
          </p:nvGrpSpPr>
          <p:grpSpPr>
            <a:xfrm>
              <a:off x="5181120" y="5029200"/>
              <a:ext cx="2285640" cy="685800"/>
              <a:chOff x="5181120" y="5029200"/>
              <a:chExt cx="2285640" cy="685800"/>
            </a:xfrm>
          </p:grpSpPr>
          <p:sp>
            <p:nvSpPr>
              <p:cNvPr id="394" name=""/>
              <p:cNvSpPr/>
              <p:nvPr/>
            </p:nvSpPr>
            <p:spPr>
              <a:xfrm>
                <a:off x="5896080" y="5029200"/>
                <a:ext cx="1570680" cy="685800"/>
              </a:xfrm>
              <a:prstGeom prst="rect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 flipV="1">
                <a:off x="5181120" y="5333760"/>
                <a:ext cx="71460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181480" y="5334120"/>
                <a:ext cx="714600" cy="30456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4037400" y="5029200"/>
              <a:ext cx="133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99"/>
                  </a:solidFill>
                  <a:latin typeface="Times New Roman"/>
                </a:rPr>
                <a:t>Inserted valu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807360" y="5486400"/>
            <a:ext cx="4117320" cy="533160"/>
            <a:chOff x="3807360" y="5486400"/>
            <a:chExt cx="4117320" cy="533160"/>
          </a:xfrm>
        </p:grpSpPr>
        <p:grpSp>
          <p:nvGrpSpPr>
            <p:cNvPr id="399" name=""/>
            <p:cNvGrpSpPr/>
            <p:nvPr/>
          </p:nvGrpSpPr>
          <p:grpSpPr>
            <a:xfrm>
              <a:off x="4952880" y="5715000"/>
              <a:ext cx="2971800" cy="304560"/>
              <a:chOff x="4952880" y="5715000"/>
              <a:chExt cx="2971800" cy="304560"/>
            </a:xfrm>
          </p:grpSpPr>
          <p:sp>
            <p:nvSpPr>
              <p:cNvPr id="400" name=""/>
              <p:cNvSpPr/>
              <p:nvPr/>
            </p:nvSpPr>
            <p:spPr>
              <a:xfrm>
                <a:off x="5257800" y="5790960"/>
                <a:ext cx="2666880" cy="228600"/>
              </a:xfrm>
              <a:prstGeom prst="rect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952880" y="5715000"/>
                <a:ext cx="30492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952880" y="5715000"/>
                <a:ext cx="304920" cy="30456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3807360" y="5486400"/>
              <a:ext cx="140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99"/>
                  </a:solidFill>
                  <a:latin typeface="Times New Roman"/>
                </a:rPr>
                <a:t>Potencial valu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Table of Content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391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WP Goals, Tasks and Delive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ODES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Semantic Portal Ont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Funciona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00"/>
                </a:solidFill>
                <a:latin typeface="Times New Roman"/>
              </a:rPr>
              <a:t>Semantic Driven Visu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Statistics of KnowledgeWeb 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Future Portal Requisites &amp; Functiona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400800" y="2743200"/>
            <a:ext cx="2438280" cy="2971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45240" y="2985120"/>
            <a:ext cx="15523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Workpa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796440" y="4737600"/>
            <a:ext cx="13010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Deliver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391520" y="335268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89720" y="380988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has associ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wp_del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6019560" cy="366408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Semantics driven visualization (intranet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delStatus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7443720" cy="46990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5029200" y="3048120"/>
            <a:ext cx="3657600" cy="3124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111720" y="3599640"/>
            <a:ext cx="15523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Workpa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262920" y="4570920"/>
            <a:ext cx="13010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Deliver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0" y="3951360"/>
            <a:ext cx="0" cy="62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6200" y="415908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has associ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98320" y="5060880"/>
            <a:ext cx="13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is generat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104880" y="5542560"/>
            <a:ext cx="147780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0" y="4923000"/>
            <a:ext cx="0" cy="62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Semantics driven visualiza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Table of Content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391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WP Goals, Tasks and Delive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ODES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Semantic Portal Ont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Funciona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G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Community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Semantic Driven Visu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00"/>
                </a:solidFill>
                <a:latin typeface="Times New Roman"/>
              </a:rPr>
              <a:t>Statistics of KnowledgeWeb 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Future Portal Requisites &amp; Functiona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Usage statistics by country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1143000" y="1143000"/>
          <a:ext cx="6400800" cy="479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143000"/>
                    <a:ext cx="640080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Table of Content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391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WP Goals, Tasks and Delive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ODES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Semantic Portal Ont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Funciona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Semantic Driven Visu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Statistics of KnowledgeWeb 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00"/>
                </a:solidFill>
                <a:latin typeface="Times New Roman"/>
              </a:rPr>
              <a:t>Future Portal Requisites &amp; Functiona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New Functionaliti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New Industrial and research area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Import content in FOAF and bibtext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Migrating ontoweb content to knowledge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Advance Searc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Execution of inference in use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JSP WIKI for distributed construction of web pages per W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Management functionalit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List of deliverable for the next perio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Mailings to WP leaders, QA people, etc, about the delivery date of deliver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Check of inconsistent information (one person belonging to two organizations, etc.) in the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Finding out content omitted on the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066680" y="1371600"/>
            <a:ext cx="701064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Times New Roman"/>
              </a:rPr>
              <a:t>Use and Popu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99"/>
                </a:solidFill>
                <a:latin typeface="Times New Roman"/>
              </a:rPr>
              <a:t>http://knowledgeweb.semanticweb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Times New Roman"/>
              </a:rPr>
              <a:t>Com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imes New Roman"/>
              </a:rPr>
              <a:t>Software </a:t>
            </a:r>
            <a:r>
              <a:rPr b="1" lang="es-E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99"/>
                </a:solidFill>
                <a:latin typeface="Times New Roman"/>
              </a:rPr>
              <a:t>Ángel López-Cima</a:t>
            </a:r>
            <a:br>
              <a:rPr sz="2400"/>
            </a:br>
            <a:r>
              <a:rPr b="1" lang="es-E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99"/>
                </a:solidFill>
                <a:latin typeface="Times New Roman"/>
              </a:rPr>
              <a:t>alopez@delicias.dia.fi.upm.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imes New Roman"/>
              </a:rPr>
              <a:t>Ontologies </a:t>
            </a:r>
            <a:r>
              <a:rPr b="1" lang="es-E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99"/>
                </a:solidFill>
                <a:latin typeface="Times New Roman"/>
              </a:rPr>
              <a:t> M. Carmen Suárez-Figuero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99"/>
                </a:solidFill>
                <a:latin typeface="Times New Roman"/>
              </a:rPr>
              <a:t>mcsuarez@delicias.dia.fi.upm.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600" y="20570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99"/>
                </a:solidFill>
                <a:latin typeface="Times New Roman"/>
              </a:rPr>
              <a:t>WP1.6. Semantic Portal Infrastructur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3427560" y="609480"/>
            <a:ext cx="2287440" cy="152424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Asunción Gómez-Pérez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Angel López-Cima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M. Carmen Suárez-Figuer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Times New Roman"/>
              </a:rPr>
              <a:t>asun@fi.upm.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Times New Roman"/>
              </a:rPr>
              <a:t>&lt;alopez, mcsuarez&gt;@delicias.dia.fi.upm.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06040" y="548640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May 14th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upm" descr=""/>
          <p:cNvPicPr/>
          <p:nvPr/>
        </p:nvPicPr>
        <p:blipFill>
          <a:blip r:embed="rId2"/>
          <a:stretch/>
        </p:blipFill>
        <p:spPr>
          <a:xfrm>
            <a:off x="1447920" y="3505320"/>
            <a:ext cx="974520" cy="1295280"/>
          </a:xfrm>
          <a:prstGeom prst="rect">
            <a:avLst/>
          </a:prstGeom>
          <a:ln w="0">
            <a:noFill/>
          </a:ln>
        </p:spPr>
      </p:pic>
      <p:pic>
        <p:nvPicPr>
          <p:cNvPr id="439" name="Resize%20of%20Logo_OEG" descr=""/>
          <p:cNvPicPr/>
          <p:nvPr/>
        </p:nvPicPr>
        <p:blipFill>
          <a:blip r:embed="rId3"/>
          <a:stretch/>
        </p:blipFill>
        <p:spPr>
          <a:xfrm>
            <a:off x="6934320" y="3733920"/>
            <a:ext cx="106668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WP 1.6 Goal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371600"/>
            <a:ext cx="7010640" cy="25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Long Term (48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.  To disseminate and promote Knowledge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99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00"/>
                </a:solidFill>
                <a:latin typeface="Times New Roman"/>
              </a:rPr>
              <a:t>Outreach to Industry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99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00"/>
                </a:solidFill>
                <a:latin typeface="Times New Roman"/>
              </a:rPr>
              <a:t>Support to Research </a:t>
            </a:r>
            <a:r>
              <a:rPr b="1" lang="es-ES" sz="1600" spc="-1" strike="noStrike">
                <a:solidFill>
                  <a:srgbClr val="990000"/>
                </a:solidFill>
                <a:latin typeface="Wingdings"/>
                <a:ea typeface="Wingdings"/>
              </a:rPr>
              <a:t></a:t>
            </a:r>
            <a:r>
              <a:rPr b="1" lang="es-ES" sz="1600" spc="-1" strike="noStrike">
                <a:solidFill>
                  <a:srgbClr val="990000"/>
                </a:solidFill>
                <a:latin typeface="Times New Roman"/>
              </a:rPr>
              <a:t> Virtual Research Center 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99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00"/>
                </a:solidFill>
                <a:latin typeface="Times New Roman"/>
              </a:rPr>
              <a:t>Support to Education </a:t>
            </a:r>
            <a:r>
              <a:rPr b="1" lang="es-ES" sz="1600" spc="-1" strike="noStrike">
                <a:solidFill>
                  <a:srgbClr val="990000"/>
                </a:solidFill>
                <a:latin typeface="Wingdings"/>
                <a:ea typeface="Wingdings"/>
              </a:rPr>
              <a:t></a:t>
            </a:r>
            <a:r>
              <a:rPr b="1" lang="es-ES" sz="1600" spc="-1" strike="noStrike">
                <a:solidFill>
                  <a:srgbClr val="990000"/>
                </a:solidFill>
                <a:latin typeface="Times New Roman"/>
              </a:rPr>
              <a:t> WISVE 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99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.</a:t>
            </a:r>
            <a:r>
              <a:rPr b="1" lang="es-E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se the portal to monitor Knowledge Web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3809880"/>
            <a:ext cx="7010640" cy="19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hort Term (18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irst draft of the semantic portal requirements and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irst draft of ont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irst version of the KW semantic port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Main Tasks for the 4 year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477800"/>
            <a:ext cx="5867280" cy="39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ask 1:  Semantic Portal </a:t>
            </a:r>
            <a:r>
              <a:rPr b="1" lang="es-ES" sz="1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Requirements and analysis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aks 2: Semantic portal </a:t>
            </a:r>
            <a:r>
              <a:rPr b="1" lang="es-ES" sz="1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ontology</a:t>
            </a:r>
            <a:r>
              <a:rPr b="1" lang="es-ES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prototype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Task 3: </a:t>
            </a:r>
            <a:r>
              <a:rPr b="1" lang="es-ES" sz="1400" spc="-1" strike="noStrike">
                <a:solidFill>
                  <a:srgbClr val="990000"/>
                </a:solidFill>
                <a:latin typeface="Times New Roman"/>
              </a:rPr>
              <a:t>Semantic Portal</a:t>
            </a: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 prototype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Task 4: Semantic Portal Unit and integration </a:t>
            </a:r>
            <a:r>
              <a:rPr b="1" lang="es-ES" sz="1400" spc="-1" strike="noStrike">
                <a:solidFill>
                  <a:srgbClr val="990000"/>
                </a:solidFill>
                <a:latin typeface="Times New Roman"/>
              </a:rPr>
              <a:t>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Task 5: </a:t>
            </a:r>
            <a:r>
              <a:rPr b="1" lang="es-ES" sz="1400" spc="-1" strike="noStrike">
                <a:solidFill>
                  <a:srgbClr val="990000"/>
                </a:solidFill>
                <a:latin typeface="Times New Roman"/>
              </a:rPr>
              <a:t>Content annotation</a:t>
            </a: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 and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Task 6: Hosting and running  </a:t>
            </a:r>
            <a:r>
              <a:rPr b="1" lang="es-ES" sz="1400" spc="-1" strike="noStrike">
                <a:solidFill>
                  <a:srgbClr val="990000"/>
                </a:solidFill>
                <a:latin typeface="Times New Roman"/>
              </a:rPr>
              <a:t>www.semanticweb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Task 7: Hosting and running </a:t>
            </a:r>
            <a:r>
              <a:rPr b="1" lang="es-ES" sz="1400" spc="-1" strike="noStrike">
                <a:solidFill>
                  <a:srgbClr val="990000"/>
                </a:solidFill>
                <a:latin typeface="Times New Roman"/>
              </a:rPr>
              <a:t>www.iwsa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3809880"/>
            <a:ext cx="7010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1676520"/>
            <a:ext cx="762120" cy="2514600"/>
          </a:xfrm>
          <a:custGeom>
            <a:avLst/>
            <a:gdLst>
              <a:gd name="textAreaLeft" fmla="*/ 0 w 762120"/>
              <a:gd name="textAreaRight" fmla="*/ 275040 w 7621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70760" y="245412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Times New Roman"/>
              </a:rPr>
              <a:t>Iter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Times New Roman"/>
              </a:rPr>
              <a:t>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5105520"/>
            <a:ext cx="82296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105520"/>
            <a:ext cx="99072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2680" y="5211720"/>
            <a:ext cx="85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imes New Roman"/>
              </a:rPr>
              <a:t>0        2                    6</a:t>
            </a:r>
            <a:r>
              <a:rPr b="0" lang="es-ES_tradnl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99"/>
                </a:solidFill>
                <a:latin typeface="Times New Roman"/>
              </a:rPr>
              <a:t>12 </a:t>
            </a:r>
            <a:r>
              <a:rPr b="0" lang="es-ES_tradnl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99"/>
                </a:solidFill>
                <a:latin typeface="Times New Roman"/>
              </a:rPr>
              <a:t>           18                           </a:t>
            </a:r>
            <a:r>
              <a:rPr b="0" lang="es-ES_tradnl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99"/>
                </a:solidFill>
                <a:latin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Documents"/>
          <p:cNvSpPr/>
          <p:nvPr/>
        </p:nvSpPr>
        <p:spPr>
          <a:xfrm>
            <a:off x="1523880" y="2743200"/>
            <a:ext cx="457200" cy="60948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ocuments"/>
          <p:cNvSpPr/>
          <p:nvPr/>
        </p:nvSpPr>
        <p:spPr>
          <a:xfrm>
            <a:off x="6172200" y="2743200"/>
            <a:ext cx="457200" cy="6094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7960" y="1803240"/>
            <a:ext cx="189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D1.6.2:First Prot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Semantic 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90000"/>
                </a:solidFill>
                <a:latin typeface="Times New Roman"/>
              </a:rPr>
              <a:t>Ont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16280" y="1981080"/>
            <a:ext cx="22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D1.6.1:Portal 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And System </a:t>
            </a:r>
            <a:r>
              <a:rPr b="1" lang="es-ES_tradnl" sz="1400" spc="-1" strike="noStrike">
                <a:solidFill>
                  <a:srgbClr val="990000"/>
                </a:solidFill>
                <a:latin typeface="Times New Roman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0640" y="1803240"/>
            <a:ext cx="2616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D1.6.3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First Prototype </a:t>
            </a:r>
            <a:r>
              <a:rPr b="1" lang="es-ES_tradnl" sz="1400" spc="-1" strike="noStrike">
                <a:solidFill>
                  <a:srgbClr val="990000"/>
                </a:solidFill>
                <a:latin typeface="Times New Roman"/>
              </a:rPr>
              <a:t>Semantic 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First Content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Maintenance of SWSA 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755720" y="34286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477120" y="33523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Deliverables (first 18mm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000" y="56386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imes New Roman"/>
              </a:rPr>
              <a:t>Use the portal at</a:t>
            </a:r>
            <a:r>
              <a:rPr b="1" lang="es-E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http://knowledgeweb.semanticweb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Documents"/>
          <p:cNvSpPr/>
          <p:nvPr/>
        </p:nvSpPr>
        <p:spPr>
          <a:xfrm>
            <a:off x="3962520" y="2743200"/>
            <a:ext cx="457200" cy="6094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194000" y="34286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Table of Content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391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WP Goals, Tasks and Delive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Times New Roman"/>
              </a:rPr>
              <a:t>ODES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Semantic Portal Ont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Funciona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Semantic Driven Visu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Statistics of KnowledgeWeb 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Future Portal Requisites &amp; Functiona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KW semantic porta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36360" y="1071720"/>
            <a:ext cx="631188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Times New Roman"/>
              </a:rPr>
              <a:t>Ontology-based application that automatically </a:t>
            </a:r>
            <a:r>
              <a:rPr b="1" lang="es-ES" sz="1600" spc="-1" strike="noStrike">
                <a:solidFill>
                  <a:srgbClr val="990000"/>
                </a:solidFill>
                <a:latin typeface="Times New Roman"/>
              </a:rPr>
              <a:t>generates</a:t>
            </a:r>
            <a:r>
              <a:rPr b="1" lang="es-ES" sz="1600" spc="-1" strike="noStrike">
                <a:solidFill>
                  <a:srgbClr val="000099"/>
                </a:solidFill>
                <a:latin typeface="Times New Roman"/>
              </a:rPr>
              <a:t> and </a:t>
            </a:r>
            <a:r>
              <a:rPr b="1" lang="es-ES" sz="1600" spc="-1" strike="noStrike">
                <a:solidFill>
                  <a:srgbClr val="990000"/>
                </a:solidFill>
                <a:latin typeface="Times New Roman"/>
              </a:rPr>
              <a:t>manages</a:t>
            </a:r>
            <a:r>
              <a:rPr b="1" lang="es-E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Times New Roman"/>
              </a:rPr>
              <a:t>knowledge portals for intranets and extran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3124080"/>
            <a:ext cx="23623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2a6bc2"/>
                </a:solidFill>
                <a:latin typeface="Arial"/>
              </a:rPr>
              <a:t>IST-2001-343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a6bc2"/>
                </a:solidFill>
                <a:latin typeface="Arial"/>
              </a:rPr>
              <a:t>http://www.esperonto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2824200"/>
            <a:ext cx="22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Permission-ba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23922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Semantic Driv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3306600"/>
            <a:ext cx="22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User Orien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3809880"/>
            <a:ext cx="22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Interope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4267080"/>
            <a:ext cx="35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Synchronization with the ont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logo1" descr=""/>
          <p:cNvPicPr/>
          <p:nvPr/>
        </p:nvPicPr>
        <p:blipFill>
          <a:blip r:embed="rId1"/>
          <a:stretch/>
        </p:blipFill>
        <p:spPr>
          <a:xfrm>
            <a:off x="6781680" y="2209680"/>
            <a:ext cx="1828800" cy="773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41680" y="4800600"/>
            <a:ext cx="255960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Times New Roman"/>
              </a:rPr>
              <a:t>Using ODESeW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1371600" cy="912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76720" y="3124080"/>
            <a:ext cx="312408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2a6bc2"/>
                </a:solidFill>
                <a:latin typeface="Arial"/>
              </a:rPr>
              <a:t>FP6-507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a6bc2"/>
                </a:solidFill>
                <a:latin typeface="Arial"/>
              </a:rPr>
              <a:t>http://knowledgeweb.semanticweb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496600" y="852480"/>
            <a:ext cx="3752280" cy="4394520"/>
            <a:chOff x="2496600" y="852480"/>
            <a:chExt cx="3752280" cy="4394520"/>
          </a:xfrm>
        </p:grpSpPr>
        <p:grpSp>
          <p:nvGrpSpPr>
            <p:cNvPr id="90" name=""/>
            <p:cNvGrpSpPr/>
            <p:nvPr/>
          </p:nvGrpSpPr>
          <p:grpSpPr>
            <a:xfrm>
              <a:off x="2895480" y="1967760"/>
              <a:ext cx="2999520" cy="2934000"/>
              <a:chOff x="2895480" y="1967760"/>
              <a:chExt cx="2999520" cy="2934000"/>
            </a:xfrm>
          </p:grpSpPr>
          <p:sp>
            <p:nvSpPr>
              <p:cNvPr id="91" name=""/>
              <p:cNvSpPr/>
              <p:nvPr/>
            </p:nvSpPr>
            <p:spPr>
              <a:xfrm>
                <a:off x="2895480" y="1967760"/>
                <a:ext cx="2999520" cy="2934000"/>
              </a:xfrm>
              <a:prstGeom prst="ellipse">
                <a:avLst/>
              </a:prstGeom>
              <a:gradFill rotWithShape="0">
                <a:gsLst>
                  <a:gs pos="0">
                    <a:srgbClr val="5e5e75"/>
                  </a:gs>
                  <a:gs pos="100000">
                    <a:srgbClr val="cccc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028680" y="2098080"/>
                <a:ext cx="2732760" cy="26730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5e5e7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rot="1030200">
              <a:off x="2910240" y="3185280"/>
              <a:ext cx="1512360" cy="5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0487000">
              <a:off x="2914560" y="3642120"/>
              <a:ext cx="150984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94520" y="3390120"/>
              <a:ext cx="1517040" cy="8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5395200">
              <a:off x="3658680" y="4132440"/>
              <a:ext cx="1473120" cy="8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 rot="7203600">
              <a:off x="3044520" y="2068920"/>
              <a:ext cx="2600280" cy="26517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469236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view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 rot="6738000">
              <a:off x="2997000" y="2021040"/>
              <a:ext cx="2694600" cy="274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512629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arch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 rot="1261800">
              <a:off x="2920320" y="2061360"/>
              <a:ext cx="2928240" cy="2731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461138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DF(S)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 rot="20244600">
              <a:off x="2908800" y="2058120"/>
              <a:ext cx="2927880" cy="27309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48255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OWL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 rot="3556800">
              <a:off x="3155400" y="2088360"/>
              <a:ext cx="2389320" cy="26859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471722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dit</a:t>
              </a:r>
              <a:endPara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 rot="5251800">
              <a:off x="3044880" y="2068920"/>
              <a:ext cx="2600280" cy="26517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440483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arch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 rot="4060800">
              <a:off x="3017160" y="2042640"/>
              <a:ext cx="2653200" cy="27039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533661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view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8900000">
              <a:off x="3491280" y="1234800"/>
              <a:ext cx="1824480" cy="179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156120" y="1202760"/>
            <a:ext cx="2471400" cy="3453480"/>
            <a:chOff x="3156120" y="1202760"/>
            <a:chExt cx="2471400" cy="3453480"/>
          </a:xfrm>
        </p:grpSpPr>
        <p:grpSp>
          <p:nvGrpSpPr>
            <p:cNvPr id="106" name=""/>
            <p:cNvGrpSpPr/>
            <p:nvPr/>
          </p:nvGrpSpPr>
          <p:grpSpPr>
            <a:xfrm>
              <a:off x="3156120" y="2182680"/>
              <a:ext cx="2471400" cy="2473560"/>
              <a:chOff x="3156120" y="2182680"/>
              <a:chExt cx="2471400" cy="2473560"/>
            </a:xfrm>
          </p:grpSpPr>
          <p:sp>
            <p:nvSpPr>
              <p:cNvPr id="107" name=""/>
              <p:cNvSpPr/>
              <p:nvPr/>
            </p:nvSpPr>
            <p:spPr>
              <a:xfrm>
                <a:off x="3156120" y="2182680"/>
                <a:ext cx="2471400" cy="2473560"/>
              </a:xfrm>
              <a:prstGeom prst="ellipse">
                <a:avLst/>
              </a:prstGeom>
              <a:gradFill rotWithShape="0">
                <a:gsLst>
                  <a:gs pos="0">
                    <a:srgbClr val="751700"/>
                  </a:gs>
                  <a:gs pos="100000">
                    <a:srgbClr val="ff33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276720" y="2302920"/>
                <a:ext cx="2229840" cy="223236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7517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248280" y="1202760"/>
              <a:ext cx="2296440" cy="3370320"/>
              <a:chOff x="3248280" y="1202760"/>
              <a:chExt cx="2296440" cy="3370320"/>
            </a:xfrm>
          </p:grpSpPr>
          <p:sp>
            <p:nvSpPr>
              <p:cNvPr id="110" name=""/>
              <p:cNvSpPr/>
              <p:nvPr/>
            </p:nvSpPr>
            <p:spPr>
              <a:xfrm rot="18900000">
                <a:off x="2819160" y="3377880"/>
                <a:ext cx="3152520" cy="9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2700000">
                <a:off x="2817720" y="3378960"/>
                <a:ext cx="3157200" cy="9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8900000">
                <a:off x="3611160" y="1523880"/>
                <a:ext cx="1559520" cy="1571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 txBox="1"/>
            <p:nvPr/>
          </p:nvSpPr>
          <p:spPr>
            <a:xfrm rot="5400000">
              <a:off x="3240720" y="2310480"/>
              <a:ext cx="2233800" cy="21621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87421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ermission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3257640" y="2274840"/>
              <a:ext cx="2232000" cy="2233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9741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ermission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 rot="5400000">
              <a:off x="3299040" y="2318400"/>
              <a:ext cx="2167200" cy="2212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9741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ermission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460680" y="2494080"/>
            <a:ext cx="1825560" cy="1825560"/>
            <a:chOff x="3460680" y="2494080"/>
            <a:chExt cx="1825560" cy="1825560"/>
          </a:xfrm>
        </p:grpSpPr>
        <p:grpSp>
          <p:nvGrpSpPr>
            <p:cNvPr id="117" name=""/>
            <p:cNvGrpSpPr/>
            <p:nvPr/>
          </p:nvGrpSpPr>
          <p:grpSpPr>
            <a:xfrm>
              <a:off x="3460680" y="2494080"/>
              <a:ext cx="1825560" cy="1825560"/>
              <a:chOff x="3460680" y="2494080"/>
              <a:chExt cx="1825560" cy="1825560"/>
            </a:xfrm>
          </p:grpSpPr>
          <p:sp>
            <p:nvSpPr>
              <p:cNvPr id="118" name=""/>
              <p:cNvSpPr/>
              <p:nvPr/>
            </p:nvSpPr>
            <p:spPr>
              <a:xfrm>
                <a:off x="3460680" y="2494080"/>
                <a:ext cx="1825560" cy="18255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71200" y="2604600"/>
                <a:ext cx="1604160" cy="160416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e4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663360" y="2747520"/>
              <a:ext cx="1318320" cy="1216440"/>
              <a:chOff x="3663360" y="2747520"/>
              <a:chExt cx="1318320" cy="1216440"/>
            </a:xfrm>
          </p:grpSpPr>
          <p:sp>
            <p:nvSpPr>
              <p:cNvPr id="121" name=""/>
              <p:cNvSpPr/>
              <p:nvPr/>
            </p:nvSpPr>
            <p:spPr>
              <a:xfrm>
                <a:off x="3663360" y="2963880"/>
                <a:ext cx="464760" cy="459360"/>
              </a:xfrm>
              <a:prstGeom prst="triangle">
                <a:avLst>
                  <a:gd name="adj" fmla="val 50000"/>
                </a:avLst>
              </a:prstGeom>
              <a:solidFill>
                <a:srgbClr val="ccccff"/>
              </a:soli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s-E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79600" y="2747520"/>
                <a:ext cx="465840" cy="459360"/>
              </a:xfrm>
              <a:prstGeom prst="triangle">
                <a:avLst>
                  <a:gd name="adj" fmla="val 50000"/>
                </a:avLst>
              </a:prstGeom>
              <a:solidFill>
                <a:srgbClr val="ccccff"/>
              </a:soli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s-E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16920" y="3260520"/>
                <a:ext cx="464760" cy="460080"/>
              </a:xfrm>
              <a:prstGeom prst="triangle">
                <a:avLst>
                  <a:gd name="adj" fmla="val 50000"/>
                </a:avLst>
              </a:prstGeom>
              <a:solidFill>
                <a:srgbClr val="ccccff"/>
              </a:soli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s-E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999240" y="3504600"/>
                <a:ext cx="465840" cy="459360"/>
              </a:xfrm>
              <a:prstGeom prst="triangle">
                <a:avLst>
                  <a:gd name="adj" fmla="val 50000"/>
                </a:avLst>
              </a:prstGeom>
              <a:solidFill>
                <a:srgbClr val="ccccff"/>
              </a:soli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s-E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3999240" y="2963520"/>
                <a:ext cx="310680" cy="216360"/>
              </a:xfrm>
              <a:prstGeom prst="line">
                <a:avLst/>
              </a:prstGeom>
              <a:ln w="3816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95560" y="3423240"/>
                <a:ext cx="232200" cy="297720"/>
              </a:xfrm>
              <a:prstGeom prst="line">
                <a:avLst/>
              </a:prstGeom>
              <a:ln w="3816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4335120" y="3504240"/>
                <a:ext cx="284040" cy="216360"/>
              </a:xfrm>
              <a:prstGeom prst="line">
                <a:avLst/>
              </a:prstGeom>
              <a:ln w="3816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50720" y="3287880"/>
                <a:ext cx="620280" cy="135000"/>
              </a:xfrm>
              <a:prstGeom prst="line">
                <a:avLst/>
              </a:prstGeom>
              <a:ln w="3816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" name=""/>
          <p:cNvGrpSpPr/>
          <p:nvPr/>
        </p:nvGrpSpPr>
        <p:grpSpPr>
          <a:xfrm>
            <a:off x="3319560" y="782640"/>
            <a:ext cx="2517120" cy="1301760"/>
            <a:chOff x="3319560" y="782640"/>
            <a:chExt cx="2517120" cy="1301760"/>
          </a:xfrm>
        </p:grpSpPr>
        <p:pic>
          <p:nvPicPr>
            <p:cNvPr id="130" name="BD05299_" descr=""/>
            <p:cNvPicPr/>
            <p:nvPr/>
          </p:nvPicPr>
          <p:blipFill>
            <a:blip r:embed="rId1"/>
            <a:stretch/>
          </p:blipFill>
          <p:spPr>
            <a:xfrm>
              <a:off x="4033800" y="782640"/>
              <a:ext cx="101124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319560" y="1716120"/>
              <a:ext cx="251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rtal Administra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H="1" flipV="1">
            <a:off x="1719360" y="782640"/>
            <a:ext cx="1574640" cy="15667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562720" y="782640"/>
            <a:ext cx="1541520" cy="15271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Global View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719360" y="4567320"/>
            <a:ext cx="1574640" cy="16318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11960" y="4567320"/>
            <a:ext cx="1411200" cy="16318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925680" y="2722680"/>
            <a:ext cx="1524960" cy="1836720"/>
            <a:chOff x="6925680" y="2722680"/>
            <a:chExt cx="1524960" cy="1836720"/>
          </a:xfrm>
        </p:grpSpPr>
        <p:pic>
          <p:nvPicPr>
            <p:cNvPr id="138" name="BD05545_" descr=""/>
            <p:cNvPicPr/>
            <p:nvPr/>
          </p:nvPicPr>
          <p:blipFill>
            <a:blip r:embed="rId2"/>
            <a:stretch/>
          </p:blipFill>
          <p:spPr>
            <a:xfrm>
              <a:off x="7104240" y="2722680"/>
              <a:ext cx="130140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925680" y="4191120"/>
              <a:ext cx="152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Guest Us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400560" y="5186520"/>
            <a:ext cx="3286440" cy="1168200"/>
            <a:chOff x="3400560" y="5186520"/>
            <a:chExt cx="3286440" cy="1168200"/>
          </a:xfrm>
        </p:grpSpPr>
        <p:pic>
          <p:nvPicPr>
            <p:cNvPr id="141" name="BS00580_" descr=""/>
            <p:cNvPicPr/>
            <p:nvPr/>
          </p:nvPicPr>
          <p:blipFill>
            <a:blip r:embed="rId3"/>
            <a:stretch/>
          </p:blipFill>
          <p:spPr>
            <a:xfrm>
              <a:off x="3400560" y="5186520"/>
              <a:ext cx="1272960" cy="1073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"/>
            <p:cNvGrpSpPr/>
            <p:nvPr/>
          </p:nvGrpSpPr>
          <p:grpSpPr>
            <a:xfrm>
              <a:off x="4295880" y="5392800"/>
              <a:ext cx="946080" cy="806400"/>
              <a:chOff x="4295880" y="5392800"/>
              <a:chExt cx="946080" cy="806400"/>
            </a:xfrm>
          </p:grpSpPr>
          <p:sp>
            <p:nvSpPr>
              <p:cNvPr id="143" name="Gear"/>
              <p:cNvSpPr/>
              <p:nvPr/>
            </p:nvSpPr>
            <p:spPr>
              <a:xfrm>
                <a:off x="4820400" y="5392800"/>
                <a:ext cx="421560" cy="36972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295880" y="5545080"/>
                <a:ext cx="504000" cy="4420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622760" y="5708160"/>
                <a:ext cx="560160" cy="49104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5162040" y="5986440"/>
              <a:ext cx="152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gent Us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04920" y="1523880"/>
            <a:ext cx="2189160" cy="4102200"/>
            <a:chOff x="304920" y="1523880"/>
            <a:chExt cx="2189160" cy="4102200"/>
          </a:xfrm>
        </p:grpSpPr>
        <p:pic>
          <p:nvPicPr>
            <p:cNvPr id="148" name="BD05297_" descr=""/>
            <p:cNvPicPr/>
            <p:nvPr/>
          </p:nvPicPr>
          <p:blipFill>
            <a:blip r:embed="rId4"/>
            <a:stretch/>
          </p:blipFill>
          <p:spPr>
            <a:xfrm>
              <a:off x="380880" y="1523880"/>
              <a:ext cx="1274760" cy="11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07440" y="5257800"/>
              <a:ext cx="213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mmunity Us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BD05297_" descr=""/>
            <p:cNvPicPr/>
            <p:nvPr/>
          </p:nvPicPr>
          <p:blipFill>
            <a:blip r:embed="rId5"/>
            <a:stretch/>
          </p:blipFill>
          <p:spPr>
            <a:xfrm>
              <a:off x="1219320" y="2590920"/>
              <a:ext cx="1274760" cy="11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BD05297_" descr=""/>
            <p:cNvPicPr/>
            <p:nvPr/>
          </p:nvPicPr>
          <p:blipFill>
            <a:blip r:embed="rId6"/>
            <a:stretch/>
          </p:blipFill>
          <p:spPr>
            <a:xfrm>
              <a:off x="304920" y="3809880"/>
              <a:ext cx="1274760" cy="1192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Table of Content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391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WP Goals, Tasks and Delive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ODES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00"/>
                </a:solidFill>
                <a:latin typeface="Times New Roman"/>
              </a:rPr>
              <a:t>Semantic Portal Ont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Funciona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Semantic Driven Visu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Statistics of KnowledgeWeb 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Future Portal Requisites &amp; Functiona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gel López Cima</cp:lastModifiedBy>
  <dcterms:modified xsi:type="dcterms:W3CDTF">2004-05-20T11:02:24Z</dcterms:modified>
  <cp:revision>279</cp:revision>
  <dc:subject/>
  <dc:title>PowerPoint Presentation</dc:title>
</cp:coreProperties>
</file>